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B98-1947-4ABA-A2DA-71E93DA4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1D1-E3E8-4D38-A033-93B60620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08F-E0E6-456D-BBCF-E0DE8BF6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87D-60DE-4E4F-A8AF-7ABAF532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4FC-3307-4C3A-BCFB-BE1638BD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5C3-41B4-475F-842A-69F3F017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FDA-2D6E-4C5D-B8BA-6E918ACA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738-BE69-471C-9479-10D69089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F56-B6A8-46C9-9D53-2B8F925F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751-45F3-48FC-A305-A8BE5C77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2275-C6EC-44F4-B697-3B17B1DF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ACB2-24D6-44E0-AC19-3D39AD82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E074-413E-4425-AB54-85B8446B19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36640" y="2006640"/>
            <a:ext cx="7929360" cy="42958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674520" y="907920"/>
            <a:ext cx="205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诗   四   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826920" y="260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八年级语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上  新课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[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人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"/>
          <p:cNvSpPr/>
          <p:nvPr/>
        </p:nvSpPr>
        <p:spPr>
          <a:xfrm>
            <a:off x="1894680" y="1756080"/>
            <a:ext cx="526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渡荆门送别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荆门”是山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战国时属于楚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别”应是告别故乡而不是送别朋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诗人设想故乡的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送别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岳阳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”是“登上”的意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岳阳楼”是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三大名楼之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始建于唐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位于湖南岳阳楼西门城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江南岸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临洞庭湖。诗题点明了写作对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对角圆角矩形 5"/>
          <p:cNvSpPr/>
          <p:nvPr/>
        </p:nvSpPr>
        <p:spPr>
          <a:xfrm>
            <a:off x="324000" y="1484280"/>
            <a:ext cx="8424720" cy="4105440"/>
          </a:xfrm>
          <a:custGeom>
            <a:avLst/>
            <a:gdLst/>
            <a:ahLst/>
            <a:rect l="l" t="t" r="r" b="b"/>
            <a:pathLst>
              <a:path w="8424936" h="4104456">
                <a:moveTo>
                  <a:pt x="684089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3420366"/>
                </a:lnTo>
                <a:cubicBezTo>
                  <a:pt x="8424936" y="3798178"/>
                  <a:pt x="8118659" y="4104455"/>
                  <a:pt x="7740847" y="4104455"/>
                </a:cubicBezTo>
                <a:lnTo>
                  <a:pt x="0" y="4104456"/>
                </a:lnTo>
                <a:lnTo>
                  <a:pt x="0" y="4104456"/>
                </a:lnTo>
                <a:lnTo>
                  <a:pt x="0" y="684089"/>
                </a:lnTo>
                <a:cubicBezTo>
                  <a:pt x="0" y="306277"/>
                  <a:pt x="306277" y="0"/>
                  <a:pt x="68408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"/>
          <p:cNvSpPr/>
          <p:nvPr/>
        </p:nvSpPr>
        <p:spPr>
          <a:xfrm>
            <a:off x="1951560" y="1828080"/>
            <a:ext cx="552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归园田居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其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晋义熙二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406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亦即陶渊明辞去彭泽令后的次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诗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下了《归园田居》五首著名诗篇。这是诗人辞旧我的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迎新我的颂歌。它所反映的深刻思想变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所表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湛圆熟的艺术技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仅为历来研究陶渊明的学者所重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使广大陶诗爱好者为之倾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对角圆角矩形 5"/>
          <p:cNvSpPr/>
          <p:nvPr/>
        </p:nvSpPr>
        <p:spPr>
          <a:xfrm>
            <a:off x="539640" y="1844640"/>
            <a:ext cx="8209080" cy="3816360"/>
          </a:xfrm>
          <a:custGeom>
            <a:avLst/>
            <a:gdLst/>
            <a:ahLst/>
            <a:rect l="l" t="t" r="r" b="b"/>
            <a:pathLst>
              <a:path w="8208912" h="3816424">
                <a:moveTo>
                  <a:pt x="636083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3180340"/>
                </a:lnTo>
                <a:cubicBezTo>
                  <a:pt x="8208912" y="3531639"/>
                  <a:pt x="7924128" y="3816423"/>
                  <a:pt x="7572829" y="3816423"/>
                </a:cubicBezTo>
                <a:lnTo>
                  <a:pt x="0" y="3816424"/>
                </a:lnTo>
                <a:lnTo>
                  <a:pt x="0" y="3816424"/>
                </a:lnTo>
                <a:lnTo>
                  <a:pt x="0" y="636083"/>
                </a:lnTo>
                <a:cubicBezTo>
                  <a:pt x="0" y="284784"/>
                  <a:pt x="284784" y="0"/>
                  <a:pt x="63608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"/>
          <p:cNvSpPr/>
          <p:nvPr/>
        </p:nvSpPr>
        <p:spPr>
          <a:xfrm>
            <a:off x="2099160" y="1677960"/>
            <a:ext cx="5069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使至塞上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开元二十五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737)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河西节度副使崔希逸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胜吐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唐玄宗命王维以监察御史的身份出塞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慰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察访军情。这实际是将王维排挤出朝廷。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诗作于赴边途中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描写了出塞沿途的景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对角圆角矩形 5"/>
          <p:cNvSpPr/>
          <p:nvPr/>
        </p:nvSpPr>
        <p:spPr>
          <a:xfrm>
            <a:off x="539640" y="1557360"/>
            <a:ext cx="8064720" cy="3743280"/>
          </a:xfrm>
          <a:custGeom>
            <a:avLst/>
            <a:gdLst/>
            <a:ahLst/>
            <a:rect l="l" t="t" r="r" b="b"/>
            <a:pathLst>
              <a:path w="8064896" h="3744416">
                <a:moveTo>
                  <a:pt x="624081" y="0"/>
                </a:moveTo>
                <a:lnTo>
                  <a:pt x="8064896" y="0"/>
                </a:lnTo>
                <a:lnTo>
                  <a:pt x="8064896" y="0"/>
                </a:lnTo>
                <a:lnTo>
                  <a:pt x="8064896" y="3120334"/>
                </a:lnTo>
                <a:cubicBezTo>
                  <a:pt x="8064896" y="3465004"/>
                  <a:pt x="7785485" y="3744415"/>
                  <a:pt x="7440815" y="3744415"/>
                </a:cubicBezTo>
                <a:lnTo>
                  <a:pt x="0" y="3744416"/>
                </a:lnTo>
                <a:lnTo>
                  <a:pt x="0" y="3744416"/>
                </a:lnTo>
                <a:lnTo>
                  <a:pt x="0" y="624081"/>
                </a:lnTo>
                <a:cubicBezTo>
                  <a:pt x="0" y="279411"/>
                  <a:pt x="279411" y="0"/>
                  <a:pt x="62408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1799640" y="1396800"/>
            <a:ext cx="5666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渡荆门送别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这首诗是诗人于开元十三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725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辞亲远游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荆门时赠别家乡而作。诗人从“五岁诵六甲”起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至二十五岁远渡荆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向在四川生活。读书于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山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览峨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隐居青城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蜀中的山山水水怀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深挚的感情。这次是诗人第一次离开故乡开始漫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国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准备实现自己的理想抱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对角圆角矩形 5"/>
          <p:cNvSpPr/>
          <p:nvPr/>
        </p:nvSpPr>
        <p:spPr>
          <a:xfrm>
            <a:off x="324000" y="1484280"/>
            <a:ext cx="8496000" cy="4608720"/>
          </a:xfrm>
          <a:custGeom>
            <a:avLst/>
            <a:gdLst/>
            <a:ahLst/>
            <a:rect l="l" t="t" r="r" b="b"/>
            <a:pathLst>
              <a:path w="8496944" h="4608512">
                <a:moveTo>
                  <a:pt x="768100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3840411"/>
                </a:lnTo>
                <a:cubicBezTo>
                  <a:pt x="8496944" y="4264621"/>
                  <a:pt x="8153054" y="4608511"/>
                  <a:pt x="7728844" y="4608511"/>
                </a:cubicBezTo>
                <a:lnTo>
                  <a:pt x="0" y="4608512"/>
                </a:lnTo>
                <a:lnTo>
                  <a:pt x="0" y="4608512"/>
                </a:lnTo>
                <a:lnTo>
                  <a:pt x="0" y="768100"/>
                </a:lnTo>
                <a:cubicBezTo>
                  <a:pt x="0" y="343890"/>
                  <a:pt x="343890" y="0"/>
                  <a:pt x="76810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468360" y="25412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登岳阳楼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其一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宋钦宗靖康元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126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春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兵攻破开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宋灭亡。与处于北宋、南宋之交的大部分诗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李清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与义的人生经历和文学创作也发生了变化。他南奔襄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颠沛湖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处逃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离失所。当他流亡到洞庭湖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几次登岳阳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朋友悲伤国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借酒浇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下了数首诗歌以记其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所选的就是其中的一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对角圆角矩形 5"/>
          <p:cNvSpPr/>
          <p:nvPr/>
        </p:nvSpPr>
        <p:spPr>
          <a:xfrm>
            <a:off x="324000" y="1700280"/>
            <a:ext cx="8424720" cy="3960720"/>
          </a:xfrm>
          <a:custGeom>
            <a:avLst/>
            <a:gdLst/>
            <a:ahLst/>
            <a:rect l="l" t="t" r="r" b="b"/>
            <a:pathLst>
              <a:path w="8424936" h="3960440">
                <a:moveTo>
                  <a:pt x="660086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3300353"/>
                </a:lnTo>
                <a:cubicBezTo>
                  <a:pt x="8424936" y="3664908"/>
                  <a:pt x="8129405" y="3960439"/>
                  <a:pt x="7764850" y="3960439"/>
                </a:cubicBezTo>
                <a:lnTo>
                  <a:pt x="0" y="3960440"/>
                </a:lnTo>
                <a:lnTo>
                  <a:pt x="0" y="3960440"/>
                </a:lnTo>
                <a:lnTo>
                  <a:pt x="0" y="660086"/>
                </a:lnTo>
                <a:cubicBezTo>
                  <a:pt x="0" y="295531"/>
                  <a:pt x="295531" y="0"/>
                  <a:pt x="660086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主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"/>
          <p:cNvSpPr/>
          <p:nvPr/>
        </p:nvSpPr>
        <p:spPr>
          <a:xfrm>
            <a:off x="1726560" y="1539000"/>
            <a:ext cx="5538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归园田居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其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首诗描写了田园劳作之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露出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者对田园生活的热爱和归隐农村的自得之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表达了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与污浊的现实同流合污的愿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使至塞上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首诗叙述了诗人出使塞上的艰苦行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的笔墨描绘了塞外奇特壮丽的风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意境雄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时也表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作者抑郁、孤寂的思想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对角圆角矩形 5"/>
          <p:cNvSpPr/>
          <p:nvPr/>
        </p:nvSpPr>
        <p:spPr>
          <a:xfrm>
            <a:off x="324000" y="1557360"/>
            <a:ext cx="8424720" cy="3672000"/>
          </a:xfrm>
          <a:custGeom>
            <a:avLst/>
            <a:gdLst/>
            <a:ahLst/>
            <a:rect l="l" t="t" r="r" b="b"/>
            <a:pathLst>
              <a:path w="8424936" h="3672408">
                <a:moveTo>
                  <a:pt x="612080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3060327"/>
                </a:lnTo>
                <a:cubicBezTo>
                  <a:pt x="8424936" y="3398369"/>
                  <a:pt x="8150898" y="3672407"/>
                  <a:pt x="7812856" y="3672407"/>
                </a:cubicBezTo>
                <a:lnTo>
                  <a:pt x="0" y="3672408"/>
                </a:lnTo>
                <a:lnTo>
                  <a:pt x="0" y="3672408"/>
                </a:lnTo>
                <a:lnTo>
                  <a:pt x="0" y="612080"/>
                </a:lnTo>
                <a:cubicBezTo>
                  <a:pt x="0" y="274038"/>
                  <a:pt x="274038" y="0"/>
                  <a:pt x="61208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主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1944720" y="1755000"/>
            <a:ext cx="524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渡荆门送别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描写了长江中游万里山势与水流的景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展现了一幅雄奇壮丽的画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韵悠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意境高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抒发了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对祖国大好河山的赞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了对故乡的无限眷念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登岳阳楼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其一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首诗写了登临岳阳楼的无限感慨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现了诗人满腹的家国之恨和身世之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寄寓了爱国主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对角圆角矩形 5"/>
          <p:cNvSpPr/>
          <p:nvPr/>
        </p:nvSpPr>
        <p:spPr>
          <a:xfrm>
            <a:off x="395280" y="1557360"/>
            <a:ext cx="8353440" cy="4032360"/>
          </a:xfrm>
          <a:custGeom>
            <a:avLst/>
            <a:gdLst/>
            <a:ahLst/>
            <a:rect l="l" t="t" r="r" b="b"/>
            <a:pathLst>
              <a:path w="8352928" h="4032448">
                <a:moveTo>
                  <a:pt x="672088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3360359"/>
                </a:lnTo>
                <a:cubicBezTo>
                  <a:pt x="8352928" y="3731543"/>
                  <a:pt x="8052024" y="4032447"/>
                  <a:pt x="7680840" y="4032447"/>
                </a:cubicBezTo>
                <a:lnTo>
                  <a:pt x="0" y="4032448"/>
                </a:lnTo>
                <a:lnTo>
                  <a:pt x="0" y="4032448"/>
                </a:lnTo>
                <a:lnTo>
                  <a:pt x="0" y="672088"/>
                </a:lnTo>
                <a:cubicBezTo>
                  <a:pt x="0" y="300904"/>
                  <a:pt x="300904" y="0"/>
                  <a:pt x="672088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脉络梳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pic>
        <p:nvPicPr>
          <p:cNvPr id="173" name="RJ30.eps" descr="id:2147505572;FounderCES"/>
          <p:cNvPicPr/>
          <p:nvPr/>
        </p:nvPicPr>
        <p:blipFill>
          <a:blip r:embed="rId2"/>
          <a:stretch/>
        </p:blipFill>
        <p:spPr>
          <a:xfrm>
            <a:off x="611280" y="1700280"/>
            <a:ext cx="7993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脉络梳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pic>
        <p:nvPicPr>
          <p:cNvPr id="177" name="RJ30-1.eps" descr="id:2147505579;FounderCES"/>
          <p:cNvPicPr/>
          <p:nvPr/>
        </p:nvPicPr>
        <p:blipFill>
          <a:blip r:embed="rId2"/>
          <a:stretch/>
        </p:blipFill>
        <p:spPr>
          <a:xfrm>
            <a:off x="539640" y="1628640"/>
            <a:ext cx="7920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脉络梳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pic>
        <p:nvPicPr>
          <p:cNvPr id="181" name="RJ30-2.eps" descr="id:2147505586;FounderCES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言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1424160" y="1465200"/>
            <a:ext cx="68284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生字注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晨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荒秽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荷锄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征蓬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汉塞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萧关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候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燕然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荆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帘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吴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徙倚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   沧波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草木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629000" y="220500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427640" y="220500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7165080" y="220500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0"/>
          <p:cNvSpPr/>
          <p:nvPr/>
        </p:nvSpPr>
        <p:spPr>
          <a:xfrm>
            <a:off x="1692720" y="285264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wé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4442760" y="285264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é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7233840" y="292428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1699200" y="342900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471708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5"/>
          <p:cNvSpPr/>
          <p:nvPr/>
        </p:nvSpPr>
        <p:spPr>
          <a:xfrm>
            <a:off x="7236000" y="350028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6"/>
          <p:cNvSpPr/>
          <p:nvPr/>
        </p:nvSpPr>
        <p:spPr>
          <a:xfrm>
            <a:off x="1699920" y="414972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7"/>
          <p:cNvSpPr/>
          <p:nvPr/>
        </p:nvSpPr>
        <p:spPr>
          <a:xfrm>
            <a:off x="4508280" y="414972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8"/>
          <p:cNvSpPr/>
          <p:nvPr/>
        </p:nvSpPr>
        <p:spPr>
          <a:xfrm>
            <a:off x="7238160" y="414972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h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9"/>
          <p:cNvSpPr/>
          <p:nvPr/>
        </p:nvSpPr>
        <p:spPr>
          <a:xfrm>
            <a:off x="1766160" y="4797360"/>
            <a:ext cx="4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0"/>
          <p:cNvSpPr/>
          <p:nvPr/>
        </p:nvSpPr>
        <p:spPr>
          <a:xfrm>
            <a:off x="4506480" y="4724280"/>
            <a:ext cx="10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6958440" y="4797360"/>
            <a:ext cx="12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3"/>
          <p:cNvSpPr/>
          <p:nvPr/>
        </p:nvSpPr>
        <p:spPr>
          <a:xfrm>
            <a:off x="1332000" y="2708280"/>
            <a:ext cx="14436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4"/>
          <p:cNvSpPr/>
          <p:nvPr/>
        </p:nvSpPr>
        <p:spPr>
          <a:xfrm>
            <a:off x="4067280" y="2708280"/>
            <a:ext cx="14436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25"/>
          <p:cNvSpPr/>
          <p:nvPr/>
        </p:nvSpPr>
        <p:spPr>
          <a:xfrm>
            <a:off x="1403280" y="335772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6"/>
          <p:cNvSpPr/>
          <p:nvPr/>
        </p:nvSpPr>
        <p:spPr>
          <a:xfrm>
            <a:off x="4140360" y="335772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27"/>
          <p:cNvSpPr/>
          <p:nvPr/>
        </p:nvSpPr>
        <p:spPr>
          <a:xfrm>
            <a:off x="971640" y="400536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28"/>
          <p:cNvSpPr/>
          <p:nvPr/>
        </p:nvSpPr>
        <p:spPr>
          <a:xfrm>
            <a:off x="1042920" y="458136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29"/>
          <p:cNvSpPr/>
          <p:nvPr/>
        </p:nvSpPr>
        <p:spPr>
          <a:xfrm>
            <a:off x="1042920" y="5300640"/>
            <a:ext cx="14436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30"/>
          <p:cNvSpPr/>
          <p:nvPr/>
        </p:nvSpPr>
        <p:spPr>
          <a:xfrm>
            <a:off x="3924360" y="5300640"/>
            <a:ext cx="14292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1"/>
          <p:cNvSpPr/>
          <p:nvPr/>
        </p:nvSpPr>
        <p:spPr>
          <a:xfrm>
            <a:off x="4211640" y="400536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2"/>
          <p:cNvSpPr/>
          <p:nvPr/>
        </p:nvSpPr>
        <p:spPr>
          <a:xfrm>
            <a:off x="4211640" y="458136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3"/>
          <p:cNvSpPr/>
          <p:nvPr/>
        </p:nvSpPr>
        <p:spPr>
          <a:xfrm>
            <a:off x="6516720" y="2708280"/>
            <a:ext cx="14292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4"/>
          <p:cNvSpPr/>
          <p:nvPr/>
        </p:nvSpPr>
        <p:spPr>
          <a:xfrm>
            <a:off x="6804000" y="335772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5"/>
          <p:cNvSpPr/>
          <p:nvPr/>
        </p:nvSpPr>
        <p:spPr>
          <a:xfrm>
            <a:off x="6875640" y="458136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6"/>
          <p:cNvSpPr/>
          <p:nvPr/>
        </p:nvSpPr>
        <p:spPr>
          <a:xfrm>
            <a:off x="6588000" y="4005360"/>
            <a:ext cx="14472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7"/>
          <p:cNvSpPr/>
          <p:nvPr/>
        </p:nvSpPr>
        <p:spPr>
          <a:xfrm>
            <a:off x="6732720" y="5300640"/>
            <a:ext cx="14292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对角圆角矩形 39"/>
          <p:cNvSpPr/>
          <p:nvPr/>
        </p:nvSpPr>
        <p:spPr>
          <a:xfrm>
            <a:off x="539640" y="1413000"/>
            <a:ext cx="7993080" cy="4464000"/>
          </a:xfrm>
          <a:custGeom>
            <a:avLst/>
            <a:gdLst/>
            <a:ahLst/>
            <a:rect l="l" t="t" r="r" b="b"/>
            <a:pathLst>
              <a:path w="7992888" h="4464496">
                <a:moveTo>
                  <a:pt x="744097" y="0"/>
                </a:moveTo>
                <a:lnTo>
                  <a:pt x="7992888" y="0"/>
                </a:lnTo>
                <a:lnTo>
                  <a:pt x="7992888" y="0"/>
                </a:lnTo>
                <a:lnTo>
                  <a:pt x="7992888" y="3720398"/>
                </a:lnTo>
                <a:cubicBezTo>
                  <a:pt x="7992888" y="4131351"/>
                  <a:pt x="7659744" y="4464495"/>
                  <a:pt x="7248791" y="4464495"/>
                </a:cubicBezTo>
                <a:lnTo>
                  <a:pt x="0" y="4464496"/>
                </a:lnTo>
                <a:lnTo>
                  <a:pt x="0" y="4464496"/>
                </a:lnTo>
                <a:lnTo>
                  <a:pt x="0" y="744097"/>
                </a:lnTo>
                <a:cubicBezTo>
                  <a:pt x="0" y="333144"/>
                  <a:pt x="333144" y="0"/>
                  <a:pt x="744097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脉络梳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pic>
        <p:nvPicPr>
          <p:cNvPr id="185" name="RJ30-3.eps" descr="id:2147505593;FounderCES"/>
          <p:cNvPicPr/>
          <p:nvPr/>
        </p:nvPicPr>
        <p:blipFill>
          <a:blip r:embed="rId2"/>
          <a:stretch/>
        </p:blipFill>
        <p:spPr>
          <a:xfrm>
            <a:off x="539640" y="1557360"/>
            <a:ext cx="8209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"/>
          <p:cNvSpPr/>
          <p:nvPr/>
        </p:nvSpPr>
        <p:spPr>
          <a:xfrm>
            <a:off x="395280" y="171720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陶渊明善于耕种吗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他想通过《归园田居》表达一种怎样的思想感情呢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诗人在南山下种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草盛豆苗稀”——很显然他不善于种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是他早出晚归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辞劳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回家的路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夕露沾湿了他的衣裳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他却丝毫不在意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使愿无违”。从表面上来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首诗写的是田园劳作之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是如果把本诗与同题其他的诗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陶渊明的《归园田居》共五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其中的第三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合起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知作者的“但使愿无违”的“愿”实质内涵是要按照自己的意愿生活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想在那污浊的世界里失去自我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使做一个农民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胜于在官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五斗米折腰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标注 5"/>
          <p:cNvSpPr/>
          <p:nvPr/>
        </p:nvSpPr>
        <p:spPr>
          <a:xfrm>
            <a:off x="250920" y="2421000"/>
            <a:ext cx="8642160" cy="3384360"/>
          </a:xfrm>
          <a:prstGeom prst="wedgeRoundRectCallout">
            <a:avLst>
              <a:gd name="adj1" fmla="val 5273"/>
              <a:gd name="adj2" fmla="val -5882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1879920" y="1434240"/>
            <a:ext cx="5276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《使至塞上》中“大漠孤烟直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长河落日圆”一联被王国维赞叹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千古壮观”的名句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谈谈你的认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两句诗充分体现了诗中有画的特色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常讲究景物的画面感。首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有画一样的构图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天边的落日到空中的烽烟到地下的河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近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烽烟到远处的夕阳到绵延无边的大漠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空间阔大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次很丰富。其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讲究线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望无际的大漠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纵的是烟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横的是河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圆的是落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线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态毕现。第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色彩丰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阔无垠的大漠黄沙漫漫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昏橘红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夕阳收敛了余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静静地居于天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辉映着波澜不惊的闪着白光的河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沙漠上升起一缕白色的烽烟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上高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雄浑寥廓的边塞风光如在目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圆角矩形标注 5"/>
          <p:cNvSpPr/>
          <p:nvPr/>
        </p:nvSpPr>
        <p:spPr>
          <a:xfrm>
            <a:off x="324000" y="2781360"/>
            <a:ext cx="8208720" cy="3384360"/>
          </a:xfrm>
          <a:prstGeom prst="wedgeRoundRectCallout">
            <a:avLst>
              <a:gd name="adj1" fmla="val -4342"/>
              <a:gd name="adj2" fmla="val -5364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对角圆角矩形 6"/>
          <p:cNvSpPr/>
          <p:nvPr/>
        </p:nvSpPr>
        <p:spPr>
          <a:xfrm>
            <a:off x="324000" y="1484280"/>
            <a:ext cx="8064360" cy="1008000"/>
          </a:xfrm>
          <a:custGeom>
            <a:avLst/>
            <a:gdLst/>
            <a:ahLst/>
            <a:rect l="l" t="t" r="r" b="b"/>
            <a:pathLst>
              <a:path w="8064896" h="1008112">
                <a:moveTo>
                  <a:pt x="168022" y="0"/>
                </a:moveTo>
                <a:lnTo>
                  <a:pt x="8064896" y="0"/>
                </a:lnTo>
                <a:lnTo>
                  <a:pt x="8064896" y="0"/>
                </a:lnTo>
                <a:lnTo>
                  <a:pt x="8064896" y="840089"/>
                </a:lnTo>
                <a:cubicBezTo>
                  <a:pt x="8064896" y="932885"/>
                  <a:pt x="7989670" y="1008111"/>
                  <a:pt x="7896874" y="1008111"/>
                </a:cubicBezTo>
                <a:lnTo>
                  <a:pt x="0" y="1008112"/>
                </a:lnTo>
                <a:lnTo>
                  <a:pt x="0" y="1008112"/>
                </a:lnTo>
                <a:lnTo>
                  <a:pt x="0" y="168022"/>
                </a:lnTo>
                <a:cubicBezTo>
                  <a:pt x="0" y="75226"/>
                  <a:pt x="75226" y="0"/>
                  <a:pt x="16802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"/>
          <p:cNvSpPr/>
          <p:nvPr/>
        </p:nvSpPr>
        <p:spPr>
          <a:xfrm>
            <a:off x="468360" y="1400040"/>
            <a:ext cx="86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《渡荆门送别》流露了诗人什么样的思想情感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颔联、颈联细致入微地刻画了长江江面开阔、两岸平旷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景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融进了诗人初次见到平原大江时那种新鲜、欣喜、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的感情。诗的尾联“仍怜故乡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里送行舟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抒发了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乡的情感。长江水自蜀东流而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诗人称其为“故乡水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诗人此次远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能不留恋自己的故乡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诗人不说自己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说故乡水恋恋不舍地一路送“我”远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抒发了诗人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的怀念惜别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对角圆角矩形 5"/>
          <p:cNvSpPr/>
          <p:nvPr/>
        </p:nvSpPr>
        <p:spPr>
          <a:xfrm>
            <a:off x="395280" y="1413000"/>
            <a:ext cx="8353440" cy="4537080"/>
          </a:xfrm>
          <a:custGeom>
            <a:avLst/>
            <a:gdLst/>
            <a:ahLst/>
            <a:rect l="l" t="t" r="r" b="b"/>
            <a:pathLst>
              <a:path w="8352928" h="4536504">
                <a:moveTo>
                  <a:pt x="756099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3780404"/>
                </a:lnTo>
                <a:cubicBezTo>
                  <a:pt x="8352928" y="4197986"/>
                  <a:pt x="8014411" y="4536503"/>
                  <a:pt x="7596829" y="4536503"/>
                </a:cubicBezTo>
                <a:lnTo>
                  <a:pt x="0" y="4536504"/>
                </a:lnTo>
                <a:lnTo>
                  <a:pt x="0" y="4536504"/>
                </a:lnTo>
                <a:lnTo>
                  <a:pt x="0" y="756099"/>
                </a:lnTo>
                <a:cubicBezTo>
                  <a:pt x="0" y="338517"/>
                  <a:pt x="338517" y="0"/>
                  <a:pt x="75609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"/>
          <p:cNvSpPr/>
          <p:nvPr/>
        </p:nvSpPr>
        <p:spPr>
          <a:xfrm>
            <a:off x="2034000" y="1647360"/>
            <a:ext cx="5549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00ff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4.“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山随平野尽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江入大荒流”一联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历来被人们称道。请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选一个角度进行赏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绘意境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苍莽起伏的山峦随着平原旷野的延伸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渐渐消失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影无踪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泻千里的长江水奔赴茫茫无际的辽阔平原。作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我们展示了一幅气势磅礴的万里长江图。②赏字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随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现出群山与平野的位置逐渐变换、推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出空间感和流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”渲染出江水奔流的磅礴气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展示了诗人的广阔胸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技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借景抒情的方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抒发了初出荆门时喜悦、激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心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是诗人开阔的胸怀、开朗的心境和蓬勃朝气的形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写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对角圆角矩形 5"/>
          <p:cNvSpPr/>
          <p:nvPr/>
        </p:nvSpPr>
        <p:spPr>
          <a:xfrm>
            <a:off x="468360" y="1557360"/>
            <a:ext cx="8280360" cy="863640"/>
          </a:xfrm>
          <a:custGeom>
            <a:avLst/>
            <a:gdLst/>
            <a:ahLst/>
            <a:rect l="l" t="t" r="r" b="b"/>
            <a:pathLst>
              <a:path w="8280920" h="864096">
                <a:moveTo>
                  <a:pt x="144018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720077"/>
                </a:lnTo>
                <a:cubicBezTo>
                  <a:pt x="8280920" y="799616"/>
                  <a:pt x="8216441" y="864095"/>
                  <a:pt x="8136902" y="864095"/>
                </a:cubicBezTo>
                <a:lnTo>
                  <a:pt x="0" y="864096"/>
                </a:lnTo>
                <a:lnTo>
                  <a:pt x="0" y="864096"/>
                </a:lnTo>
                <a:lnTo>
                  <a:pt x="0" y="144018"/>
                </a:lnTo>
                <a:cubicBezTo>
                  <a:pt x="0" y="64479"/>
                  <a:pt x="64479" y="0"/>
                  <a:pt x="144018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圆角矩形标注 6"/>
          <p:cNvSpPr/>
          <p:nvPr/>
        </p:nvSpPr>
        <p:spPr>
          <a:xfrm>
            <a:off x="324000" y="2708280"/>
            <a:ext cx="8569080" cy="3168720"/>
          </a:xfrm>
          <a:prstGeom prst="wedgeRoundRectCallout">
            <a:avLst>
              <a:gd name="adj1" fmla="val -9050"/>
              <a:gd name="adj2" fmla="val -5781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"/>
          <p:cNvSpPr/>
          <p:nvPr/>
        </p:nvSpPr>
        <p:spPr>
          <a:xfrm>
            <a:off x="1515240" y="966600"/>
            <a:ext cx="376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一、积累与运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加点字注音全部正确的一项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晨兴理荒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suì)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月荷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hè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锄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萧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i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o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逢候骑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护在燕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y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n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临吴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shǔ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横分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徙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yǐ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湖山欲暮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征蓬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pēng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汉塞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雁入胡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3"/>
          <p:cNvSpPr/>
          <p:nvPr/>
        </p:nvSpPr>
        <p:spPr>
          <a:xfrm>
            <a:off x="468360" y="378936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“秽”应读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uì;B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“燕”应读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y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n;D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“蓬”应读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péng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684360" y="4132080"/>
            <a:ext cx="619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诗句中加点的词解释不正确的一项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月荷锄归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扛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晨兴理荒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污秽的垃圾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使愿无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违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仍怜故乡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5"/>
          <p:cNvSpPr/>
          <p:nvPr/>
        </p:nvSpPr>
        <p:spPr>
          <a:xfrm>
            <a:off x="4140360" y="6021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荒秽”指野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对角圆角矩形 6"/>
          <p:cNvSpPr/>
          <p:nvPr/>
        </p:nvSpPr>
        <p:spPr>
          <a:xfrm>
            <a:off x="539640" y="3789360"/>
            <a:ext cx="8353440" cy="431640"/>
          </a:xfrm>
          <a:custGeom>
            <a:avLst/>
            <a:gdLst/>
            <a:ahLst/>
            <a:rect l="l" t="t" r="r" b="b"/>
            <a:pathLst>
              <a:path w="8352928" h="432048">
                <a:moveTo>
                  <a:pt x="72009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360038"/>
                </a:lnTo>
                <a:cubicBezTo>
                  <a:pt x="8352928" y="399807"/>
                  <a:pt x="8320688" y="432047"/>
                  <a:pt x="8280919" y="432047"/>
                </a:cubicBezTo>
                <a:lnTo>
                  <a:pt x="0" y="432048"/>
                </a:lnTo>
                <a:lnTo>
                  <a:pt x="0" y="432048"/>
                </a:lnTo>
                <a:lnTo>
                  <a:pt x="0" y="72009"/>
                </a:lnTo>
                <a:cubicBezTo>
                  <a:pt x="0" y="32240"/>
                  <a:pt x="32240" y="0"/>
                  <a:pt x="7200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对角圆角矩形 8"/>
          <p:cNvSpPr/>
          <p:nvPr/>
        </p:nvSpPr>
        <p:spPr>
          <a:xfrm>
            <a:off x="3995640" y="5950080"/>
            <a:ext cx="3456000" cy="503280"/>
          </a:xfrm>
          <a:custGeom>
            <a:avLst/>
            <a:gdLst/>
            <a:ahLst/>
            <a:rect l="l" t="t" r="r" b="b"/>
            <a:pathLst>
              <a:path w="3456384" h="504056">
                <a:moveTo>
                  <a:pt x="84011" y="0"/>
                </a:moveTo>
                <a:lnTo>
                  <a:pt x="3456384" y="0"/>
                </a:lnTo>
                <a:lnTo>
                  <a:pt x="3456384" y="0"/>
                </a:lnTo>
                <a:lnTo>
                  <a:pt x="3456384" y="420044"/>
                </a:lnTo>
                <a:cubicBezTo>
                  <a:pt x="3456384" y="466442"/>
                  <a:pt x="3418771" y="504055"/>
                  <a:pt x="3372373" y="504055"/>
                </a:cubicBezTo>
                <a:lnTo>
                  <a:pt x="0" y="504056"/>
                </a:lnTo>
                <a:lnTo>
                  <a:pt x="0" y="504056"/>
                </a:lnTo>
                <a:lnTo>
                  <a:pt x="0" y="84011"/>
                </a:lnTo>
                <a:cubicBezTo>
                  <a:pt x="0" y="37613"/>
                  <a:pt x="37613" y="0"/>
                  <a:pt x="8401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9"/>
          <p:cNvSpPr/>
          <p:nvPr/>
        </p:nvSpPr>
        <p:spPr>
          <a:xfrm>
            <a:off x="5012640" y="14842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1"/>
          <p:cNvSpPr/>
          <p:nvPr/>
        </p:nvSpPr>
        <p:spPr>
          <a:xfrm>
            <a:off x="5728680" y="4221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2"/>
          <p:cNvSpPr/>
          <p:nvPr/>
        </p:nvSpPr>
        <p:spPr>
          <a:xfrm>
            <a:off x="2050920" y="2349360"/>
            <a:ext cx="14472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13"/>
          <p:cNvSpPr/>
          <p:nvPr/>
        </p:nvSpPr>
        <p:spPr>
          <a:xfrm>
            <a:off x="3419640" y="234936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14"/>
          <p:cNvSpPr/>
          <p:nvPr/>
        </p:nvSpPr>
        <p:spPr>
          <a:xfrm>
            <a:off x="1116000" y="2852640"/>
            <a:ext cx="14292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5"/>
          <p:cNvSpPr/>
          <p:nvPr/>
        </p:nvSpPr>
        <p:spPr>
          <a:xfrm>
            <a:off x="3851280" y="278136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16"/>
          <p:cNvSpPr/>
          <p:nvPr/>
        </p:nvSpPr>
        <p:spPr>
          <a:xfrm>
            <a:off x="1835280" y="321300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17"/>
          <p:cNvSpPr/>
          <p:nvPr/>
        </p:nvSpPr>
        <p:spPr>
          <a:xfrm>
            <a:off x="3780000" y="321300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18"/>
          <p:cNvSpPr/>
          <p:nvPr/>
        </p:nvSpPr>
        <p:spPr>
          <a:xfrm>
            <a:off x="1332000" y="3716280"/>
            <a:ext cx="14436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9"/>
          <p:cNvSpPr/>
          <p:nvPr/>
        </p:nvSpPr>
        <p:spPr>
          <a:xfrm>
            <a:off x="2050920" y="5516640"/>
            <a:ext cx="14472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20"/>
          <p:cNvSpPr/>
          <p:nvPr/>
        </p:nvSpPr>
        <p:spPr>
          <a:xfrm>
            <a:off x="2550960" y="3927600"/>
            <a:ext cx="14472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1"/>
          <p:cNvSpPr/>
          <p:nvPr/>
        </p:nvSpPr>
        <p:spPr>
          <a:xfrm>
            <a:off x="1835280" y="5516640"/>
            <a:ext cx="14436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22"/>
          <p:cNvSpPr/>
          <p:nvPr/>
        </p:nvSpPr>
        <p:spPr>
          <a:xfrm>
            <a:off x="1619280" y="501336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23"/>
          <p:cNvSpPr/>
          <p:nvPr/>
        </p:nvSpPr>
        <p:spPr>
          <a:xfrm>
            <a:off x="2050920" y="5950080"/>
            <a:ext cx="14472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24"/>
          <p:cNvSpPr/>
          <p:nvPr/>
        </p:nvSpPr>
        <p:spPr>
          <a:xfrm>
            <a:off x="1332000" y="638172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"/>
          <p:cNvSpPr/>
          <p:nvPr/>
        </p:nvSpPr>
        <p:spPr>
          <a:xfrm>
            <a:off x="1770480" y="964440"/>
            <a:ext cx="467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作品与作者、作者所属朝代搭配有误的一项是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使至塞上》　王右丞　唐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登岳阳楼》　陈与义　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归园田居》　陶渊明　西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渡荆门送别》　李白　唐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3"/>
          <p:cNvSpPr/>
          <p:nvPr/>
        </p:nvSpPr>
        <p:spPr>
          <a:xfrm>
            <a:off x="1847160" y="3357720"/>
            <a:ext cx="6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陶渊明是东晋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468360" y="3799440"/>
            <a:ext cx="734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默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沾不足惜，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　　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　　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护在燕然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　　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里送行舟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4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临吴蜀横分地，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　　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5"/>
          <p:cNvSpPr/>
          <p:nvPr/>
        </p:nvSpPr>
        <p:spPr>
          <a:xfrm>
            <a:off x="1116000" y="4221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但使愿无违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萧关逢候骑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仍怜故乡水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徙倚湖山欲暮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6"/>
          <p:cNvSpPr/>
          <p:nvPr/>
        </p:nvSpPr>
        <p:spPr>
          <a:xfrm>
            <a:off x="7028640" y="1052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对角圆角矩形 8"/>
          <p:cNvSpPr/>
          <p:nvPr/>
        </p:nvSpPr>
        <p:spPr>
          <a:xfrm>
            <a:off x="395280" y="3284640"/>
            <a:ext cx="7632720" cy="504720"/>
          </a:xfrm>
          <a:custGeom>
            <a:avLst/>
            <a:gdLst/>
            <a:ahLst/>
            <a:rect l="l" t="t" r="r" b="b"/>
            <a:pathLst>
              <a:path w="7632848" h="504056">
                <a:moveTo>
                  <a:pt x="84011" y="0"/>
                </a:moveTo>
                <a:lnTo>
                  <a:pt x="7632848" y="0"/>
                </a:lnTo>
                <a:lnTo>
                  <a:pt x="7632848" y="0"/>
                </a:lnTo>
                <a:lnTo>
                  <a:pt x="7632848" y="420044"/>
                </a:lnTo>
                <a:cubicBezTo>
                  <a:pt x="7632848" y="466442"/>
                  <a:pt x="7595235" y="504055"/>
                  <a:pt x="7548837" y="504055"/>
                </a:cubicBezTo>
                <a:lnTo>
                  <a:pt x="0" y="504056"/>
                </a:lnTo>
                <a:lnTo>
                  <a:pt x="0" y="504056"/>
                </a:lnTo>
                <a:lnTo>
                  <a:pt x="0" y="84011"/>
                </a:lnTo>
                <a:cubicBezTo>
                  <a:pt x="0" y="37613"/>
                  <a:pt x="37613" y="0"/>
                  <a:pt x="8401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766080" y="790920"/>
            <a:ext cx="7401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默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归园田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中最能表现田园之乐的诗句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点明主旨的诗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使至塞上》中抓住沙漠中典型的景物进行刻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塞外奇特壮丽的风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被誉为“千古壮观”的名句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渡荆门送别》中写渡过荆门进入楚地所见的壮阔景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两句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含蓄抒发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乡之情的句子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"/>
          <p:cNvSpPr/>
          <p:nvPr/>
        </p:nvSpPr>
        <p:spPr>
          <a:xfrm>
            <a:off x="971640" y="1844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晨兴理荒秽　   带月荷锄归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衣沾不足惜　      但使愿无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4"/>
          <p:cNvSpPr/>
          <p:nvPr/>
        </p:nvSpPr>
        <p:spPr>
          <a:xfrm>
            <a:off x="900000" y="4149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漠孤烟直　    长河落日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5"/>
          <p:cNvSpPr/>
          <p:nvPr/>
        </p:nvSpPr>
        <p:spPr>
          <a:xfrm>
            <a:off x="2484360" y="5084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随平野尽　江入大荒流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仍怜故乡水　      万里送行舟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9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2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4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7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43" name="矩形 2"/>
          <p:cNvSpPr/>
          <p:nvPr/>
        </p:nvSpPr>
        <p:spPr>
          <a:xfrm>
            <a:off x="395280" y="112536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《登岳阳楼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中写景最浓墨重彩的两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         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539640" y="1557360"/>
            <a:ext cx="81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                                                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里来游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望远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三年多难更凭危。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577800" y="2581920"/>
            <a:ext cx="856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班进行“古诗苑漫步”综合性学习活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完成下面的任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天是四季中惹人情思的季节。走进古诗苑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会收获许多咏春的佳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在以下诗句中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出两组描写春天景色的诗句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街小雨润如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草色遥看近却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梅时节家家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青草池塘处处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忽如一夜春风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千树万树梨花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独怜幽草涧边生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有黄鹂深树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木落雁南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风江上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5"/>
          <p:cNvSpPr/>
          <p:nvPr/>
        </p:nvSpPr>
        <p:spPr>
          <a:xfrm>
            <a:off x="2771640" y="155736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道出一个亡国之臣心中愤懑的两句是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6"/>
          <p:cNvSpPr/>
          <p:nvPr/>
        </p:nvSpPr>
        <p:spPr>
          <a:xfrm>
            <a:off x="468360" y="1052640"/>
            <a:ext cx="79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                                        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洞庭之东江水西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帘旌不动夕阳迟　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10"/>
          <p:cNvSpPr/>
          <p:nvPr/>
        </p:nvSpPr>
        <p:spPr>
          <a:xfrm>
            <a:off x="7020000" y="1989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2"/>
          <p:cNvSpPr/>
          <p:nvPr/>
        </p:nvSpPr>
        <p:spPr>
          <a:xfrm>
            <a:off x="539640" y="249228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4"/>
          <p:cNvSpPr/>
          <p:nvPr/>
        </p:nvSpPr>
        <p:spPr>
          <a:xfrm>
            <a:off x="5148360" y="422100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此题考查对古诗描写季节的理解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“黄梅时节”“处处蛙”表明描写的是夏季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C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是比喻的修辞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描写冬季的雪景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E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“雁南度”“江上寒”是秋季的典型情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对角圆角矩形 15"/>
          <p:cNvSpPr/>
          <p:nvPr/>
        </p:nvSpPr>
        <p:spPr>
          <a:xfrm>
            <a:off x="5003640" y="4221000"/>
            <a:ext cx="3816360" cy="1944720"/>
          </a:xfrm>
          <a:custGeom>
            <a:avLst/>
            <a:gdLst/>
            <a:ahLst/>
            <a:rect l="l" t="t" r="r" b="b"/>
            <a:pathLst>
              <a:path w="3816424" h="1944216">
                <a:moveTo>
                  <a:pt x="324042" y="0"/>
                </a:moveTo>
                <a:lnTo>
                  <a:pt x="3816424" y="0"/>
                </a:lnTo>
                <a:lnTo>
                  <a:pt x="3816424" y="0"/>
                </a:lnTo>
                <a:lnTo>
                  <a:pt x="3816424" y="1620173"/>
                </a:lnTo>
                <a:cubicBezTo>
                  <a:pt x="3816424" y="1799136"/>
                  <a:pt x="3671345" y="1944215"/>
                  <a:pt x="3492382" y="1944215"/>
                </a:cubicBezTo>
                <a:lnTo>
                  <a:pt x="0" y="1944216"/>
                </a:lnTo>
                <a:lnTo>
                  <a:pt x="0" y="1944216"/>
                </a:lnTo>
                <a:lnTo>
                  <a:pt x="0" y="324042"/>
                </a:lnTo>
                <a:cubicBezTo>
                  <a:pt x="0" y="145079"/>
                  <a:pt x="145079" y="0"/>
                  <a:pt x="32404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6"/>
          <p:cNvSpPr/>
          <p:nvPr/>
        </p:nvSpPr>
        <p:spPr>
          <a:xfrm>
            <a:off x="6611400" y="357336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A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7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2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"/>
          <p:cNvSpPr/>
          <p:nvPr/>
        </p:nvSpPr>
        <p:spPr>
          <a:xfrm>
            <a:off x="2153880" y="988920"/>
            <a:ext cx="5247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已选出的两组诗句中任选一组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从运用感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描写的角度说说诗句是如何描写景物的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样描写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因是什么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"/>
          <p:cNvSpPr/>
          <p:nvPr/>
        </p:nvSpPr>
        <p:spPr>
          <a:xfrm>
            <a:off x="684360" y="3284640"/>
            <a:ext cx="8064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选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组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“独怜幽草涧边生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上有黄鹂深树鸣”两句中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运用了视觉、听觉描写景物。这里用听到的黄鹂声来反衬涧边青草的幽静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表达出诗人对涧边幽草的喜爱之情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圆角矩形标注 5"/>
          <p:cNvSpPr/>
          <p:nvPr/>
        </p:nvSpPr>
        <p:spPr>
          <a:xfrm>
            <a:off x="468360" y="3141720"/>
            <a:ext cx="8496360" cy="2735280"/>
          </a:xfrm>
          <a:prstGeom prst="wedgeRoundRectCallout">
            <a:avLst>
              <a:gd name="adj1" fmla="val -7976"/>
              <a:gd name="adj2" fmla="val -5858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言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1918080" y="1396800"/>
            <a:ext cx="5620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古今异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河落日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古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河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今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的河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仍怜故乡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古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今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下飞天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古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月映入江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”作动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今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光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对角圆角矩形 5"/>
          <p:cNvSpPr/>
          <p:nvPr/>
        </p:nvSpPr>
        <p:spPr>
          <a:xfrm>
            <a:off x="539640" y="1557360"/>
            <a:ext cx="8064720" cy="4535640"/>
          </a:xfrm>
          <a:custGeom>
            <a:avLst/>
            <a:gdLst/>
            <a:ahLst/>
            <a:rect l="l" t="t" r="r" b="b"/>
            <a:pathLst>
              <a:path w="8064896" h="4536504">
                <a:moveTo>
                  <a:pt x="756099" y="0"/>
                </a:moveTo>
                <a:lnTo>
                  <a:pt x="8064896" y="0"/>
                </a:lnTo>
                <a:lnTo>
                  <a:pt x="8064896" y="0"/>
                </a:lnTo>
                <a:lnTo>
                  <a:pt x="8064896" y="3780404"/>
                </a:lnTo>
                <a:cubicBezTo>
                  <a:pt x="8064896" y="4197986"/>
                  <a:pt x="7726379" y="4536503"/>
                  <a:pt x="7308797" y="4536503"/>
                </a:cubicBezTo>
                <a:lnTo>
                  <a:pt x="0" y="4536504"/>
                </a:lnTo>
                <a:lnTo>
                  <a:pt x="0" y="4536504"/>
                </a:lnTo>
                <a:lnTo>
                  <a:pt x="0" y="756099"/>
                </a:lnTo>
                <a:cubicBezTo>
                  <a:pt x="0" y="338517"/>
                  <a:pt x="338517" y="0"/>
                  <a:pt x="75609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6"/>
          <p:cNvSpPr/>
          <p:nvPr/>
        </p:nvSpPr>
        <p:spPr>
          <a:xfrm>
            <a:off x="1042920" y="2708280"/>
            <a:ext cx="14436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9"/>
          <p:cNvSpPr/>
          <p:nvPr/>
        </p:nvSpPr>
        <p:spPr>
          <a:xfrm>
            <a:off x="1403280" y="2708280"/>
            <a:ext cx="14436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1"/>
          <p:cNvSpPr/>
          <p:nvPr/>
        </p:nvSpPr>
        <p:spPr>
          <a:xfrm>
            <a:off x="1476360" y="3933720"/>
            <a:ext cx="14292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12"/>
          <p:cNvSpPr/>
          <p:nvPr/>
        </p:nvSpPr>
        <p:spPr>
          <a:xfrm>
            <a:off x="1116000" y="5229360"/>
            <a:ext cx="14292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3"/>
          <p:cNvSpPr/>
          <p:nvPr/>
        </p:nvSpPr>
        <p:spPr>
          <a:xfrm>
            <a:off x="1476360" y="5229360"/>
            <a:ext cx="14292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"/>
          <p:cNvSpPr/>
          <p:nvPr/>
        </p:nvSpPr>
        <p:spPr>
          <a:xfrm>
            <a:off x="2004840" y="999000"/>
            <a:ext cx="5124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古诗也讲究炼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诗句准确生动。请你阅读下面这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唐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答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桃 花 溪　　张　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隐隐飞桥隔野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石矶西畔问渔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桃花尽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洞在清溪何处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诗文空缺处要填入的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人认为“随”恰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人认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”更适合。你选择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3"/>
          <p:cNvSpPr/>
          <p:nvPr/>
        </p:nvSpPr>
        <p:spPr>
          <a:xfrm>
            <a:off x="3989880" y="429264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2117520" y="4840920"/>
            <a:ext cx="48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由示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个“随”字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准确地写出了落花轻盈、溪流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澈平缓的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6"/>
          <p:cNvSpPr/>
          <p:nvPr/>
        </p:nvSpPr>
        <p:spPr>
          <a:xfrm>
            <a:off x="1979640" y="5445000"/>
            <a:ext cx="633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9"/>
          <p:cNvSpPr/>
          <p:nvPr/>
        </p:nvSpPr>
        <p:spPr>
          <a:xfrm>
            <a:off x="755640" y="602136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"/>
          <p:cNvSpPr/>
          <p:nvPr/>
        </p:nvSpPr>
        <p:spPr>
          <a:xfrm>
            <a:off x="900000" y="92304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二、阅读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园田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陶渊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种豆南山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草盛豆苗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晨兴理荒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月荷锄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道狭草木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夕露沾我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衣沾不足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使愿无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3"/>
          <p:cNvSpPr/>
          <p:nvPr/>
        </p:nvSpPr>
        <p:spPr>
          <a:xfrm>
            <a:off x="1042920" y="4292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7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本诗最能突现诗人摒弃尘俗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躬耕自食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归返自然心愿的诗句是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微软雅黑"/>
                <a:ea typeface="微软雅黑"/>
              </a:rPr>
              <a:t>　          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4"/>
          <p:cNvSpPr/>
          <p:nvPr/>
        </p:nvSpPr>
        <p:spPr>
          <a:xfrm>
            <a:off x="2893320" y="4869000"/>
            <a:ext cx="22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晨兴理荒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月荷锄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"/>
          <p:cNvSpPr/>
          <p:nvPr/>
        </p:nvSpPr>
        <p:spPr>
          <a:xfrm>
            <a:off x="2311200" y="1126800"/>
            <a:ext cx="488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联系诗人的生平与思想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说诗中“但使愿无违”的“愿”指的是什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"/>
          <p:cNvSpPr/>
          <p:nvPr/>
        </p:nvSpPr>
        <p:spPr>
          <a:xfrm>
            <a:off x="468360" y="155736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诗中的“愿”指的是远离官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隐居躬耕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与世俗同流合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1943640" y="2186640"/>
            <a:ext cx="5672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面对本诗赏析有误的一项是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晨兴理荒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月荷锄归”以极富诗意的笔法写出诗人早出晚归不辞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劳的形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诗从表面上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的是田园劳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实传达出的是诗人归隐田园的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愿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流露出诗人淳朴率真的生活情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五首古诗中的精金良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以一天的劳动为线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热情歌咏了躬耕生活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明诗人不与世俗同流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污的心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陶诗用语过于平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乏情趣。如本诗中的“种豆南山下”“带月荷锄归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夕露沾我衣”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250920" y="524088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带月荷锄归”写劳动归来的诗人虽然独自一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却有一轮明月陪伴。月下的诗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肩扛一把锄头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穿行在齐腰深的草丛里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是一幅多么美好的月夜归耕图啊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!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其中洋溢着诗人心情的愉快和归隐的自豪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淡中又富于情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圆角矩形标注 6"/>
          <p:cNvSpPr/>
          <p:nvPr/>
        </p:nvSpPr>
        <p:spPr>
          <a:xfrm>
            <a:off x="468360" y="1557360"/>
            <a:ext cx="8351640" cy="503280"/>
          </a:xfrm>
          <a:prstGeom prst="wedgeRoundRectCallout">
            <a:avLst>
              <a:gd name="adj1" fmla="val -10171"/>
              <a:gd name="adj2" fmla="val -6325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对角圆角矩形 8"/>
          <p:cNvSpPr/>
          <p:nvPr/>
        </p:nvSpPr>
        <p:spPr>
          <a:xfrm>
            <a:off x="324000" y="5084640"/>
            <a:ext cx="8569080" cy="1081080"/>
          </a:xfrm>
          <a:custGeom>
            <a:avLst/>
            <a:gdLst/>
            <a:ahLst/>
            <a:rect l="l" t="t" r="r" b="b"/>
            <a:pathLst>
              <a:path w="8568952" h="1080120">
                <a:moveTo>
                  <a:pt x="180023" y="0"/>
                </a:moveTo>
                <a:lnTo>
                  <a:pt x="8568952" y="0"/>
                </a:lnTo>
                <a:lnTo>
                  <a:pt x="8568952" y="0"/>
                </a:lnTo>
                <a:lnTo>
                  <a:pt x="8568952" y="900096"/>
                </a:lnTo>
                <a:cubicBezTo>
                  <a:pt x="8568952" y="999520"/>
                  <a:pt x="8488353" y="1080119"/>
                  <a:pt x="8388929" y="1080119"/>
                </a:cubicBezTo>
                <a:lnTo>
                  <a:pt x="0" y="1080120"/>
                </a:lnTo>
                <a:lnTo>
                  <a:pt x="0" y="1080120"/>
                </a:lnTo>
                <a:lnTo>
                  <a:pt x="0" y="180023"/>
                </a:lnTo>
                <a:cubicBezTo>
                  <a:pt x="0" y="80599"/>
                  <a:pt x="80599" y="0"/>
                  <a:pt x="18002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9"/>
          <p:cNvSpPr/>
          <p:nvPr/>
        </p:nvSpPr>
        <p:spPr>
          <a:xfrm>
            <a:off x="4727520" y="2205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"/>
          <p:cNvSpPr/>
          <p:nvPr/>
        </p:nvSpPr>
        <p:spPr>
          <a:xfrm>
            <a:off x="1768680" y="1003320"/>
            <a:ext cx="5519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二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使至塞上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王　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车欲问边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属国过居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征蓬出汉塞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雁入胡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大漠孤烟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河落日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萧关逢候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护在燕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诗中表明作者轻车简从奉命出使边塞的句子是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"/>
          <p:cNvSpPr/>
          <p:nvPr/>
        </p:nvSpPr>
        <p:spPr>
          <a:xfrm>
            <a:off x="826920" y="4869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单车欲问边　  属国过居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"/>
          <p:cNvSpPr/>
          <p:nvPr/>
        </p:nvSpPr>
        <p:spPr>
          <a:xfrm>
            <a:off x="324000" y="10648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本诗赏析有误的一项是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首诗首尾叙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间写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融写景、叙事、抒情于一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颔联既言事又写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在叙事写景中传达出诗人出汉塞入胡天时激动、自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情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首诗中最值得称颂的是颈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充分体现了王维诗歌“诗中有画”的特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首诗形象生动地描绘出壮丽、奇特、别致的塞外风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静结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意境雄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1869840" y="3985920"/>
            <a:ext cx="544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颔联中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诗人以“蓬”“雁”自比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说自己像随风而去的蓬草一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出临“汉塞”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像振翮北飞的“归雁”一样进入“胡天”。古诗中多用飞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比喻漂泊在外的游子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里却是比喻一个负有朝廷使命的大臣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正是暗写诗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内心的激愤和抑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对角圆角矩形 4"/>
          <p:cNvSpPr/>
          <p:nvPr/>
        </p:nvSpPr>
        <p:spPr>
          <a:xfrm>
            <a:off x="179280" y="4076640"/>
            <a:ext cx="8785440" cy="1728720"/>
          </a:xfrm>
          <a:custGeom>
            <a:avLst/>
            <a:gdLst/>
            <a:ahLst/>
            <a:rect l="l" t="t" r="r" b="b"/>
            <a:pathLst>
              <a:path w="8784976" h="1728192">
                <a:moveTo>
                  <a:pt x="288037" y="0"/>
                </a:moveTo>
                <a:lnTo>
                  <a:pt x="8784976" y="0"/>
                </a:lnTo>
                <a:lnTo>
                  <a:pt x="8784976" y="0"/>
                </a:lnTo>
                <a:lnTo>
                  <a:pt x="8784976" y="1440154"/>
                </a:lnTo>
                <a:cubicBezTo>
                  <a:pt x="8784976" y="1599232"/>
                  <a:pt x="8656017" y="1728191"/>
                  <a:pt x="8496939" y="1728191"/>
                </a:cubicBezTo>
                <a:lnTo>
                  <a:pt x="0" y="1728192"/>
                </a:lnTo>
                <a:lnTo>
                  <a:pt x="0" y="1728192"/>
                </a:lnTo>
                <a:lnTo>
                  <a:pt x="0" y="288037"/>
                </a:lnTo>
                <a:cubicBezTo>
                  <a:pt x="0" y="128959"/>
                  <a:pt x="128959" y="0"/>
                  <a:pt x="288037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5"/>
          <p:cNvSpPr/>
          <p:nvPr/>
        </p:nvSpPr>
        <p:spPr>
          <a:xfrm>
            <a:off x="4289040" y="11253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"/>
          <p:cNvSpPr/>
          <p:nvPr/>
        </p:nvSpPr>
        <p:spPr>
          <a:xfrm>
            <a:off x="395280" y="1040400"/>
            <a:ext cx="82090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渡荆门送别　　李　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　   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荆门中考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渡远荆门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从楚国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山随平野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江入大荒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月下飞天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云生结海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仍怜故乡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里送行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首诗歌抒发了作者怎样的思想感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3"/>
          <p:cNvSpPr/>
          <p:nvPr/>
        </p:nvSpPr>
        <p:spPr>
          <a:xfrm>
            <a:off x="395280" y="4221000"/>
            <a:ext cx="8424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抒发了诗人强烈的思乡之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此题考查诗歌的主题和对诗人情感的把握。诗歌一般有送别诗、边塞诗、山水诗、田园诗、怀古诗、思乡诗、爱国诗、咏物诗等等分类。本诗的尾句“仍怜故乡水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里送行舟”即表达了诗人强烈的思乡之情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圆角矩形标注 4"/>
          <p:cNvSpPr/>
          <p:nvPr/>
        </p:nvSpPr>
        <p:spPr>
          <a:xfrm>
            <a:off x="395280" y="4292640"/>
            <a:ext cx="8424720" cy="1944720"/>
          </a:xfrm>
          <a:prstGeom prst="wedgeRoundRectCallout">
            <a:avLst>
              <a:gd name="adj1" fmla="val 4115"/>
              <a:gd name="adj2" fmla="val -5355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"/>
          <p:cNvSpPr/>
          <p:nvPr/>
        </p:nvSpPr>
        <p:spPr>
          <a:xfrm>
            <a:off x="2036520" y="1173240"/>
            <a:ext cx="502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.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山随平野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江入大荒流”中的“随”“入”二字炼得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作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赏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1937880" y="2251800"/>
            <a:ext cx="545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诗人乘船前行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群山渐渐远去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用“随”字将群山与平野的位置逐渐变换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推移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给人以空间感和流动感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长江滚滚远去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用一“入”字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仿佛江水流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碧空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流入荒漠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流入大海之外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气势磅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此题考查古诗的炼字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即语言艺术。古人写诗十分讲究炼字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“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字”艺术有一字传情、以动衬静、化静为动、以动写静、以实显虚、以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衬哀、一语显旨等。做本题时要适当翻译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在释义时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要把“随”和“入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化静为动、以动写静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以游动的视角把景物写得富有灵动性的效果表述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圆角矩形标注 4"/>
          <p:cNvSpPr/>
          <p:nvPr/>
        </p:nvSpPr>
        <p:spPr>
          <a:xfrm>
            <a:off x="250920" y="2349360"/>
            <a:ext cx="8569080" cy="3600720"/>
          </a:xfrm>
          <a:prstGeom prst="wedgeRoundRectCallout">
            <a:avLst>
              <a:gd name="adj1" fmla="val -4615"/>
              <a:gd name="adj2" fmla="val -5525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对角圆角矩形 5"/>
          <p:cNvSpPr/>
          <p:nvPr/>
        </p:nvSpPr>
        <p:spPr>
          <a:xfrm>
            <a:off x="250920" y="1125360"/>
            <a:ext cx="8497800" cy="1008360"/>
          </a:xfrm>
          <a:custGeom>
            <a:avLst/>
            <a:gdLst/>
            <a:ahLst/>
            <a:rect l="l" t="t" r="r" b="b"/>
            <a:pathLst>
              <a:path w="8496944" h="1008112">
                <a:moveTo>
                  <a:pt x="168022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840089"/>
                </a:lnTo>
                <a:cubicBezTo>
                  <a:pt x="8496944" y="932885"/>
                  <a:pt x="8421718" y="1008111"/>
                  <a:pt x="8328922" y="1008111"/>
                </a:cubicBezTo>
                <a:lnTo>
                  <a:pt x="0" y="1008112"/>
                </a:lnTo>
                <a:lnTo>
                  <a:pt x="0" y="1008112"/>
                </a:lnTo>
                <a:lnTo>
                  <a:pt x="0" y="168022"/>
                </a:lnTo>
                <a:cubicBezTo>
                  <a:pt x="0" y="75226"/>
                  <a:pt x="75226" y="0"/>
                  <a:pt x="16802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"/>
          <p:cNvSpPr/>
          <p:nvPr/>
        </p:nvSpPr>
        <p:spPr>
          <a:xfrm>
            <a:off x="1784520" y="1359360"/>
            <a:ext cx="5511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四）登岳阳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陈与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洞庭之东江水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帘旌不动夕阳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登临吴蜀横分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徙倚湖山欲暮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万里来游还望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年多难更凭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白头吊古风霜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木沧波无限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首七言律诗借景抒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自然之景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融于一体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"/>
          <p:cNvSpPr/>
          <p:nvPr/>
        </p:nvSpPr>
        <p:spPr>
          <a:xfrm>
            <a:off x="5724360" y="41497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家国之恨　 身世之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57600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"/>
          <p:cNvSpPr/>
          <p:nvPr/>
        </p:nvSpPr>
        <p:spPr>
          <a:xfrm>
            <a:off x="1803240" y="785520"/>
            <a:ext cx="5415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这首诗品析有误的一项是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联点明登临位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“帘旌”到“夕阳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景由远及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颔联思昔抚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忆“吴蜀”融入厚重历史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“徙倚”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透个人怅惘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颈联“万里”与“三年”对举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别从空间和时间跨度上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了亡国之臣的无尽忧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尾联“风霜”语意双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沧波”情景交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于无限悲凉中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束全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24000" y="53265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“帘旌”为近景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“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夕阳”为远景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近景远景合而为一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可以想见诗人的视线由近及远地扫描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逐渐放开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融入那苍茫的暮色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对角圆角矩形 4"/>
          <p:cNvSpPr/>
          <p:nvPr/>
        </p:nvSpPr>
        <p:spPr>
          <a:xfrm>
            <a:off x="250920" y="5229360"/>
            <a:ext cx="7561080" cy="1439640"/>
          </a:xfrm>
          <a:custGeom>
            <a:avLst/>
            <a:gdLst/>
            <a:ahLst/>
            <a:rect l="l" t="t" r="r" b="b"/>
            <a:pathLst>
              <a:path w="7560840" h="1440160">
                <a:moveTo>
                  <a:pt x="240031" y="0"/>
                </a:moveTo>
                <a:lnTo>
                  <a:pt x="7560840" y="0"/>
                </a:lnTo>
                <a:lnTo>
                  <a:pt x="7560840" y="0"/>
                </a:lnTo>
                <a:lnTo>
                  <a:pt x="7560840" y="1200128"/>
                </a:lnTo>
                <a:cubicBezTo>
                  <a:pt x="7560840" y="1332693"/>
                  <a:pt x="7453374" y="1440159"/>
                  <a:pt x="7320809" y="1440159"/>
                </a:cubicBezTo>
                <a:lnTo>
                  <a:pt x="0" y="1440160"/>
                </a:lnTo>
                <a:lnTo>
                  <a:pt x="0" y="1440160"/>
                </a:lnTo>
                <a:lnTo>
                  <a:pt x="0" y="240031"/>
                </a:lnTo>
                <a:cubicBezTo>
                  <a:pt x="0" y="107466"/>
                  <a:pt x="107466" y="0"/>
                  <a:pt x="24003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5"/>
          <p:cNvSpPr/>
          <p:nvPr/>
        </p:nvSpPr>
        <p:spPr>
          <a:xfrm>
            <a:off x="5376600" y="9810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"/>
          <p:cNvSpPr/>
          <p:nvPr/>
        </p:nvSpPr>
        <p:spPr>
          <a:xfrm>
            <a:off x="2924280" y="196200"/>
            <a:ext cx="345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三、课堂小练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试从课文的几首诗中任选一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你的理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文字或绘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你的阅读感受描绘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1839960" y="1832760"/>
            <a:ext cx="561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范文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在这四首诗中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最喜欢李白的《渡荆门送别》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因为李白的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歌具有“笔落惊风雨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诗成泣鬼神”的艺术魅力。《渡荆门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别》与诗人其他的送别诗不一样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诗人由写景而转入抒情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初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离别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怎能不无限留恋、依依不舍呢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但诗人不说自己思念故乡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而说故乡之水恋恋不舍地一路送自己远行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怀着深厚的情谊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里送行舟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从对方写来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越发显示出自己的思乡情重。这种独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的写送别诗的方式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言有尽而意无穷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带给我深刻的启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5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8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1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4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7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0" dur="2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3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6" dur="20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言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1299960" y="191628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沾不足惜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值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丰年留客足鸡豚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足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5846400" y="1700280"/>
            <a:ext cx="21009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车欲问边（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视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今是何世（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打听、询问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1310760" y="414972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月荷锄归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扛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荷才露尖尖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荷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5669640" y="3716280"/>
            <a:ext cx="245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属国过居延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典属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良田美池桑竹 之属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情于苏黄不属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相同、类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572400" y="2276640"/>
            <a:ext cx="37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足                                  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614160" y="450864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荷                                       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左大括号 12"/>
          <p:cNvSpPr/>
          <p:nvPr/>
        </p:nvSpPr>
        <p:spPr>
          <a:xfrm>
            <a:off x="684360" y="4365720"/>
            <a:ext cx="71280" cy="79200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792000"/>
              <a:gd name="textAreaBottom" fmla="*/ 790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大括号 13"/>
          <p:cNvSpPr/>
          <p:nvPr/>
        </p:nvSpPr>
        <p:spPr>
          <a:xfrm>
            <a:off x="611280" y="2133720"/>
            <a:ext cx="73080" cy="790560"/>
          </a:xfrm>
          <a:custGeom>
            <a:avLst/>
            <a:gdLst>
              <a:gd name="textAreaLeft" fmla="*/ 46800 w 73080"/>
              <a:gd name="textAreaRight" fmla="*/ 73440 w 73080"/>
              <a:gd name="textAreaTop" fmla="*/ 1800 h 790560"/>
              <a:gd name="textAreaBottom" fmla="*/ 78876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左大括号 14"/>
          <p:cNvSpPr/>
          <p:nvPr/>
        </p:nvSpPr>
        <p:spPr>
          <a:xfrm>
            <a:off x="4572000" y="2060640"/>
            <a:ext cx="71280" cy="79200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792000"/>
              <a:gd name="textAreaBottom" fmla="*/ 790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左大括号 15"/>
          <p:cNvSpPr/>
          <p:nvPr/>
        </p:nvSpPr>
        <p:spPr>
          <a:xfrm>
            <a:off x="4572000" y="4005360"/>
            <a:ext cx="144360" cy="122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224000"/>
              <a:gd name="textAreaBottom" fmla="*/ 1220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6"/>
                  <a:pt x="10800" y="211"/>
                </a:cubicBezTo>
                <a:lnTo>
                  <a:pt x="10800" y="10589"/>
                </a:lnTo>
                <a:cubicBezTo>
                  <a:pt x="10800" y="10695"/>
                  <a:pt x="5400" y="10800"/>
                  <a:pt x="0" y="10800"/>
                </a:cubicBezTo>
                <a:cubicBezTo>
                  <a:pt x="5400" y="10800"/>
                  <a:pt x="10800" y="10906"/>
                  <a:pt x="10800" y="11011"/>
                </a:cubicBezTo>
                <a:lnTo>
                  <a:pt x="10800" y="21389"/>
                </a:lnTo>
                <a:cubicBezTo>
                  <a:pt x="10800" y="21495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对角圆角矩形 16"/>
          <p:cNvSpPr/>
          <p:nvPr/>
        </p:nvSpPr>
        <p:spPr>
          <a:xfrm>
            <a:off x="250920" y="1773360"/>
            <a:ext cx="8713800" cy="3959280"/>
          </a:xfrm>
          <a:custGeom>
            <a:avLst/>
            <a:gdLst/>
            <a:ahLst/>
            <a:rect l="l" t="t" r="r" b="b"/>
            <a:pathLst>
              <a:path w="8712968" h="3960440">
                <a:moveTo>
                  <a:pt x="660086" y="0"/>
                </a:moveTo>
                <a:lnTo>
                  <a:pt x="8712968" y="0"/>
                </a:lnTo>
                <a:lnTo>
                  <a:pt x="8712968" y="0"/>
                </a:lnTo>
                <a:lnTo>
                  <a:pt x="8712968" y="3300353"/>
                </a:lnTo>
                <a:cubicBezTo>
                  <a:pt x="8712968" y="3664908"/>
                  <a:pt x="8417437" y="3960439"/>
                  <a:pt x="8052882" y="3960439"/>
                </a:cubicBezTo>
                <a:lnTo>
                  <a:pt x="0" y="3960440"/>
                </a:lnTo>
                <a:lnTo>
                  <a:pt x="0" y="3960440"/>
                </a:lnTo>
                <a:lnTo>
                  <a:pt x="0" y="660086"/>
                </a:lnTo>
                <a:cubicBezTo>
                  <a:pt x="0" y="295531"/>
                  <a:pt x="295531" y="0"/>
                  <a:pt x="660086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3295440" y="12693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一词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bt6b.jpg" descr=""/>
          <p:cNvPicPr/>
          <p:nvPr/>
        </p:nvPicPr>
        <p:blipFill>
          <a:blip r:embed="rId1"/>
          <a:stretch/>
        </p:blipFill>
        <p:spPr>
          <a:xfrm>
            <a:off x="2771640" y="260280"/>
            <a:ext cx="4319640" cy="7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611280" y="1123920"/>
          <a:ext cx="8137440" cy="4960800"/>
        </p:xfrm>
        <a:graphic>
          <a:graphicData uri="http://schemas.openxmlformats.org/drawingml/2006/table">
            <a:tbl>
              <a:tblPr/>
              <a:tblGrid>
                <a:gridCol w="723960"/>
                <a:gridCol w="7413480"/>
              </a:tblGrid>
              <a:tr h="560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微软雅黑"/>
                          <a:ea typeface="微软雅黑"/>
                        </a:rPr>
                        <a:t>活   动   策   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归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NEU-BZ-S92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2800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解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技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NEU-BZ-S92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1"/>
          <p:cNvSpPr/>
          <p:nvPr/>
        </p:nvSpPr>
        <p:spPr>
          <a:xfrm>
            <a:off x="3588480" y="1706760"/>
            <a:ext cx="298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类题目一般是给定一个活动项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求编写活动提纲、拟定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方案、完善活动过程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查方式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(1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拟写活动方案或计划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主题班会方案设计、读书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方案设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(2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设活动开场白、主题语、宣传语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(3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提出解决问题的建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(4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对活动内容谈收获和体会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2588040" y="3296520"/>
            <a:ext cx="4818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策划类题目的解题可分为以下几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一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审清题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懂题干要求。明确命题意图和要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活动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程有一个比较清楚的认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二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确主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理设计活动。明白活动主题内容及背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己的生活经验设计合理的活动方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三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对性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重活动实效。设计和方案一定要有可操作性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行性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解决实际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言简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述清晰明了。组织答案时要求语言简洁、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述清楚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5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0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5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0" dur="1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5" dur="1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6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9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2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5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4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bt45.jpg" descr=""/>
          <p:cNvPicPr/>
          <p:nvPr/>
        </p:nvPicPr>
        <p:blipFill>
          <a:blip r:embed="rId1"/>
          <a:stretch/>
        </p:blipFill>
        <p:spPr>
          <a:xfrm>
            <a:off x="6299280" y="260280"/>
            <a:ext cx="2340000" cy="549360"/>
          </a:xfrm>
          <a:prstGeom prst="rect">
            <a:avLst/>
          </a:prstGeom>
          <a:ln w="0">
            <a:noFill/>
          </a:ln>
        </p:spPr>
      </p:pic>
      <p:pic>
        <p:nvPicPr>
          <p:cNvPr id="307" name="bt6b.jpg" descr=""/>
          <p:cNvPicPr/>
          <p:nvPr/>
        </p:nvPicPr>
        <p:blipFill>
          <a:blip r:embed="rId2"/>
          <a:stretch/>
        </p:blipFill>
        <p:spPr>
          <a:xfrm>
            <a:off x="1619280" y="189000"/>
            <a:ext cx="4321080" cy="7920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"/>
          <p:cNvSpPr/>
          <p:nvPr/>
        </p:nvSpPr>
        <p:spPr>
          <a:xfrm>
            <a:off x="1027800" y="1043640"/>
            <a:ext cx="740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盐城中考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提升中学生的文明素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某中学围绕“八礼四仪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展语文实践系列活动。请你参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完成相关任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专题访谈】针对社会上发生的个别学生不孝顺父母的现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园电视台邀请部分学生、家长作为访谈对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录制一期以“中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的孝心怎么了”为话题的访谈节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为该节目的主持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在学生、家长、专家这三类访谈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选择一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设三个访谈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访谈对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设问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①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②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③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bt45.jpg" descr=""/>
          <p:cNvPicPr/>
          <p:nvPr/>
        </p:nvPicPr>
        <p:blipFill>
          <a:blip r:embed="rId1"/>
          <a:stretch/>
        </p:blipFill>
        <p:spPr>
          <a:xfrm>
            <a:off x="6299280" y="260280"/>
            <a:ext cx="2340000" cy="549360"/>
          </a:xfrm>
          <a:prstGeom prst="rect">
            <a:avLst/>
          </a:prstGeom>
          <a:ln w="0">
            <a:noFill/>
          </a:ln>
        </p:spPr>
      </p:pic>
      <p:pic>
        <p:nvPicPr>
          <p:cNvPr id="310" name="bt6b.jpg" descr=""/>
          <p:cNvPicPr/>
          <p:nvPr/>
        </p:nvPicPr>
        <p:blipFill>
          <a:blip r:embed="rId2"/>
          <a:stretch/>
        </p:blipFill>
        <p:spPr>
          <a:xfrm>
            <a:off x="1619280" y="189000"/>
            <a:ext cx="4321080" cy="792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1"/>
          <p:cNvSpPr/>
          <p:nvPr/>
        </p:nvSpPr>
        <p:spPr>
          <a:xfrm>
            <a:off x="1680840" y="1115640"/>
            <a:ext cx="570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答案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示例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觉得自己在孝顺方面做得如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怎么看身边这些不孝敬父母的现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觉得我们中学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孝顺父母方面应该怎么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示例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觉得您的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在孝顺父母方面做得怎么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认为现在孩子不孝顺的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主要有哪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培养孩子孝心方面您有哪些好的想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出来和其他家长共享。示例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认为目前中学生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孝顺父母的现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子在哪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对我们家长在培养孩子们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孝心方面有什么建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认为目前学校和社会在培养孩子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孝心方面还需要做哪些工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bt45.jpg" descr=""/>
          <p:cNvPicPr/>
          <p:nvPr/>
        </p:nvPicPr>
        <p:blipFill>
          <a:blip r:embed="rId1"/>
          <a:stretch/>
        </p:blipFill>
        <p:spPr>
          <a:xfrm>
            <a:off x="6299280" y="260280"/>
            <a:ext cx="2340000" cy="549360"/>
          </a:xfrm>
          <a:prstGeom prst="rect">
            <a:avLst/>
          </a:prstGeom>
          <a:ln w="0">
            <a:noFill/>
          </a:ln>
        </p:spPr>
      </p:pic>
      <p:pic>
        <p:nvPicPr>
          <p:cNvPr id="313" name="bt6b.jpg" descr=""/>
          <p:cNvPicPr/>
          <p:nvPr/>
        </p:nvPicPr>
        <p:blipFill>
          <a:blip r:embed="rId2"/>
          <a:stretch/>
        </p:blipFill>
        <p:spPr>
          <a:xfrm>
            <a:off x="1619280" y="189000"/>
            <a:ext cx="4321080" cy="7920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"/>
          <p:cNvSpPr/>
          <p:nvPr/>
        </p:nvSpPr>
        <p:spPr>
          <a:xfrm>
            <a:off x="1976400" y="1464480"/>
            <a:ext cx="4892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该题具有较强的开放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又不是无原则的开放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生必须紧扣“孝心”这一核心话题设计问题。此题的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关键在于问题的角色定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按学生、家长、专家的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身份去设计相关话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突出不同年龄、不同职业、不同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角色、不同知识层次的人对这一问题的不同见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对角圆角矩形 4"/>
          <p:cNvSpPr/>
          <p:nvPr/>
        </p:nvSpPr>
        <p:spPr>
          <a:xfrm>
            <a:off x="324000" y="1341360"/>
            <a:ext cx="8208720" cy="3743280"/>
          </a:xfrm>
          <a:custGeom>
            <a:avLst/>
            <a:gdLst/>
            <a:ahLst/>
            <a:rect l="l" t="t" r="r" b="b"/>
            <a:pathLst>
              <a:path w="8208912" h="3744416">
                <a:moveTo>
                  <a:pt x="624081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3120334"/>
                </a:lnTo>
                <a:cubicBezTo>
                  <a:pt x="8208912" y="3465004"/>
                  <a:pt x="7929501" y="3744415"/>
                  <a:pt x="7584831" y="3744415"/>
                </a:cubicBezTo>
                <a:lnTo>
                  <a:pt x="0" y="3744416"/>
                </a:lnTo>
                <a:lnTo>
                  <a:pt x="0" y="3744416"/>
                </a:lnTo>
                <a:lnTo>
                  <a:pt x="0" y="624081"/>
                </a:lnTo>
                <a:cubicBezTo>
                  <a:pt x="0" y="279411"/>
                  <a:pt x="279411" y="0"/>
                  <a:pt x="62408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bt46.jpg" descr=""/>
          <p:cNvPicPr/>
          <p:nvPr/>
        </p:nvPicPr>
        <p:blipFill>
          <a:blip r:embed="rId1"/>
          <a:stretch/>
        </p:blipFill>
        <p:spPr>
          <a:xfrm>
            <a:off x="6083280" y="331920"/>
            <a:ext cx="2448000" cy="504720"/>
          </a:xfrm>
          <a:prstGeom prst="rect">
            <a:avLst/>
          </a:prstGeom>
          <a:ln w="0">
            <a:noFill/>
          </a:ln>
        </p:spPr>
      </p:pic>
      <p:pic>
        <p:nvPicPr>
          <p:cNvPr id="317" name="bt6b.jpg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4321080" cy="79236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"/>
          <p:cNvSpPr/>
          <p:nvPr/>
        </p:nvSpPr>
        <p:spPr>
          <a:xfrm>
            <a:off x="1610280" y="1188720"/>
            <a:ext cx="5673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（襄阳中考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推进“文化襄阳”建设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市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开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年四月集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展“书香溢襄阳”读书活动。为配合这次活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所在的班级同时开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读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好书”综合性学习活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设计活动】这次活动的成功举行离不开合理的安排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老师已设计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两种活动形式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帮他再设计两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举办“我的读书经验”交流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举行“书香溢襄阳”读书知识竞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四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2577600" y="4284720"/>
            <a:ext cx="48758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①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举办“走进名著”读书报告会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②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举办“名著在我心中”读书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讲会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举办“名著走向舞台”话剧表演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④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出一期“我与名著共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长”墙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黑板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6"/>
          <p:cNvSpPr/>
          <p:nvPr/>
        </p:nvSpPr>
        <p:spPr>
          <a:xfrm flipV="1">
            <a:off x="1403280" y="4797000"/>
            <a:ext cx="705636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8"/>
          <p:cNvSpPr/>
          <p:nvPr/>
        </p:nvSpPr>
        <p:spPr>
          <a:xfrm flipV="1">
            <a:off x="1403280" y="5229360"/>
            <a:ext cx="705636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9"/>
          <p:cNvSpPr/>
          <p:nvPr/>
        </p:nvSpPr>
        <p:spPr>
          <a:xfrm>
            <a:off x="1332000" y="5732640"/>
            <a:ext cx="28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zkyd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3398760" cy="576000"/>
          </a:xfrm>
          <a:prstGeom prst="rect">
            <a:avLst/>
          </a:prstGeom>
          <a:ln w="0">
            <a:noFill/>
          </a:ln>
        </p:spPr>
      </p:pic>
      <p:pic>
        <p:nvPicPr>
          <p:cNvPr id="324" name="bt43.jpg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800360" cy="43164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"/>
          <p:cNvSpPr/>
          <p:nvPr/>
        </p:nvSpPr>
        <p:spPr>
          <a:xfrm>
            <a:off x="2205000" y="1145880"/>
            <a:ext cx="5538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考题型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描绘诗词画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典型题例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首诗描绘了一幅怎样的画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用生动的语言把诗词中某一句所展现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景象描绘出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方法指津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描绘诗词句子的画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能只是对原诗句简单地翻译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是要把诗句转化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己的语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生动形象的语言描绘诗词中的情景。答题时可分为以下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正确理解诗词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抓准诗词中的主要景物。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几句话将“竹喧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浣女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莲动下渔舟”展示的画面描绘出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抓准竹林、洗衣姑娘们、莲叶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打鱼人的渔船。其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借助联想和想象在忠实于诗词原意的基础上加以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造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言力求优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丰富画面的意境。如何联想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既要联想到诗人创作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词是怎样的心境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要结合自己的生活阅历联想到这些景物在自己平时看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怎样的一种情景。如何想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补充诗词细节是一种行之有效的好方法。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竹喧归浣女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莲动下渔舟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可以想象为什么会喧闹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聊天声、嬉笑声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放歌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莲为什么会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想到打鱼人的渔船穿过荷塘归来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对角圆角矩形 6"/>
          <p:cNvSpPr/>
          <p:nvPr/>
        </p:nvSpPr>
        <p:spPr>
          <a:xfrm>
            <a:off x="179280" y="1052640"/>
            <a:ext cx="8785440" cy="5113080"/>
          </a:xfrm>
          <a:custGeom>
            <a:avLst/>
            <a:gdLst/>
            <a:ahLst/>
            <a:rect l="l" t="t" r="r" b="b"/>
            <a:pathLst>
              <a:path w="8784976" h="5112568">
                <a:moveTo>
                  <a:pt x="852111" y="0"/>
                </a:moveTo>
                <a:lnTo>
                  <a:pt x="8784976" y="0"/>
                </a:lnTo>
                <a:lnTo>
                  <a:pt x="8784976" y="0"/>
                </a:lnTo>
                <a:lnTo>
                  <a:pt x="8784976" y="4260456"/>
                </a:lnTo>
                <a:cubicBezTo>
                  <a:pt x="8784976" y="4731064"/>
                  <a:pt x="8403473" y="5112567"/>
                  <a:pt x="7932865" y="5112567"/>
                </a:cubicBezTo>
                <a:lnTo>
                  <a:pt x="0" y="5112568"/>
                </a:lnTo>
                <a:lnTo>
                  <a:pt x="0" y="5112568"/>
                </a:lnTo>
                <a:lnTo>
                  <a:pt x="0" y="852111"/>
                </a:lnTo>
                <a:cubicBezTo>
                  <a:pt x="0" y="381503"/>
                  <a:pt x="381503" y="0"/>
                  <a:pt x="85211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0" dur="10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5" dur="20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8" dur="20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1" dur="20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4" dur="20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7" dur="20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0" dur="20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3" dur="200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6" dur="20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9" dur="200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2" dur="2000"/>
                                        <p:tgtEl>
                                          <p:spTgt spid="3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zkyd.jpg" descr=""/>
          <p:cNvPicPr/>
          <p:nvPr/>
        </p:nvPicPr>
        <p:blipFill>
          <a:blip r:embed="rId1"/>
          <a:stretch/>
        </p:blipFill>
        <p:spPr>
          <a:xfrm>
            <a:off x="2987640" y="0"/>
            <a:ext cx="3398760" cy="576360"/>
          </a:xfrm>
          <a:prstGeom prst="rect">
            <a:avLst/>
          </a:prstGeom>
          <a:ln w="0">
            <a:noFill/>
          </a:ln>
        </p:spPr>
      </p:pic>
      <p:pic>
        <p:nvPicPr>
          <p:cNvPr id="328" name="bt43.jpg" descr=""/>
          <p:cNvPicPr/>
          <p:nvPr/>
        </p:nvPicPr>
        <p:blipFill>
          <a:blip r:embed="rId2"/>
          <a:stretch/>
        </p:blipFill>
        <p:spPr>
          <a:xfrm>
            <a:off x="3708360" y="620640"/>
            <a:ext cx="1800360" cy="4320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"/>
          <p:cNvSpPr/>
          <p:nvPr/>
        </p:nvSpPr>
        <p:spPr>
          <a:xfrm>
            <a:off x="1886400" y="1006920"/>
            <a:ext cx="5218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考题型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会诗词主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典型题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分析某句诗的思想感情或内涵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评价诗作的思想感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概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诗歌的主题思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诗句的思想内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阐述诗歌所表达的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、态度、主张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方法指津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看诗词题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诗词题目往往提示内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帮助我们理解诗词传达的情感。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江南逢李龟年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目暗示读者这首诗表达了作者与李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在江南重逢时的感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8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3" dur="1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8" dur="1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3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8" dur="1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zkyd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3398760" cy="576000"/>
          </a:xfrm>
          <a:prstGeom prst="rect">
            <a:avLst/>
          </a:prstGeom>
          <a:ln w="0">
            <a:noFill/>
          </a:ln>
        </p:spPr>
      </p:pic>
      <p:pic>
        <p:nvPicPr>
          <p:cNvPr id="331" name="bt43.jpg" descr=""/>
          <p:cNvPicPr/>
          <p:nvPr/>
        </p:nvPicPr>
        <p:blipFill>
          <a:blip r:embed="rId2"/>
          <a:stretch/>
        </p:blipFill>
        <p:spPr>
          <a:xfrm>
            <a:off x="3924360" y="836640"/>
            <a:ext cx="1800000" cy="43164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"/>
          <p:cNvSpPr/>
          <p:nvPr/>
        </p:nvSpPr>
        <p:spPr>
          <a:xfrm>
            <a:off x="1890720" y="790920"/>
            <a:ext cx="5537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抓关键词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诗词中凝练、传神的字词和诗人抒情、言志、阐理的关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而把握诗歌主旨。《龟虽寿》中“老骥伏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志在千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烈士暮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壮心不已”四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作者对人生的执着追求和不懈进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精神显现于纸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透露出作者希望在有生之年完成祖国统一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的强烈愿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析形象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理解诗词形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握诗人情感。古诗词中的典型形象往往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较固定的情感。如“浮云”常比喻在外漂泊的游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李白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送友人》一诗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借此比喻诗人对朋友依依惜别的心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7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1" dur="20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4" dur="2000"/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7" dur="2000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zkyd.jpg" descr=""/>
          <p:cNvPicPr/>
          <p:nvPr/>
        </p:nvPicPr>
        <p:blipFill>
          <a:blip r:embed="rId1"/>
          <a:stretch/>
        </p:blipFill>
        <p:spPr>
          <a:xfrm>
            <a:off x="3203640" y="189000"/>
            <a:ext cx="3398760" cy="576000"/>
          </a:xfrm>
          <a:prstGeom prst="rect">
            <a:avLst/>
          </a:prstGeom>
          <a:ln w="0">
            <a:noFill/>
          </a:ln>
        </p:spPr>
      </p:pic>
      <p:pic>
        <p:nvPicPr>
          <p:cNvPr id="334" name="bt43.jpg" descr=""/>
          <p:cNvPicPr/>
          <p:nvPr/>
        </p:nvPicPr>
        <p:blipFill>
          <a:blip r:embed="rId2"/>
          <a:stretch/>
        </p:blipFill>
        <p:spPr>
          <a:xfrm>
            <a:off x="3924360" y="836640"/>
            <a:ext cx="1800000" cy="43164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"/>
          <p:cNvSpPr/>
          <p:nvPr/>
        </p:nvSpPr>
        <p:spPr>
          <a:xfrm>
            <a:off x="1901880" y="1397520"/>
            <a:ext cx="5572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辨题材类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诗词题材不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的思想感情就不同。写景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孟浩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过故人庄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现热爱、向往悠闲自由的生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恬淡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的心情及隐逸思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送别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王维《送元二使安西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依依不舍的留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友人的思念或劝勉安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咏物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陆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卜算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咏梅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借某物的特点来表达自己的人格、品性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追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对角圆角矩形 6"/>
          <p:cNvSpPr/>
          <p:nvPr/>
        </p:nvSpPr>
        <p:spPr>
          <a:xfrm>
            <a:off x="395280" y="1413000"/>
            <a:ext cx="8353440" cy="4176720"/>
          </a:xfrm>
          <a:custGeom>
            <a:avLst/>
            <a:gdLst/>
            <a:ahLst/>
            <a:rect l="l" t="t" r="r" b="b"/>
            <a:pathLst>
              <a:path w="8352928" h="4176464">
                <a:moveTo>
                  <a:pt x="696091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3480372"/>
                </a:lnTo>
                <a:cubicBezTo>
                  <a:pt x="8352928" y="3864812"/>
                  <a:pt x="8041277" y="4176463"/>
                  <a:pt x="7656837" y="4176463"/>
                </a:cubicBezTo>
                <a:lnTo>
                  <a:pt x="0" y="4176464"/>
                </a:lnTo>
                <a:lnTo>
                  <a:pt x="0" y="4176464"/>
                </a:lnTo>
                <a:lnTo>
                  <a:pt x="0" y="696091"/>
                </a:lnTo>
                <a:cubicBezTo>
                  <a:pt x="0" y="311651"/>
                  <a:pt x="311651" y="0"/>
                  <a:pt x="69609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6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zkyd.jpg" descr=""/>
          <p:cNvPicPr/>
          <p:nvPr/>
        </p:nvPicPr>
        <p:blipFill>
          <a:blip r:embed="rId1"/>
          <a:stretch/>
        </p:blipFill>
        <p:spPr>
          <a:xfrm>
            <a:off x="3203640" y="189000"/>
            <a:ext cx="3398760" cy="576000"/>
          </a:xfrm>
          <a:prstGeom prst="rect">
            <a:avLst/>
          </a:prstGeom>
          <a:ln w="0">
            <a:noFill/>
          </a:ln>
        </p:spPr>
      </p:pic>
      <p:pic>
        <p:nvPicPr>
          <p:cNvPr id="338" name="bt43.jpg" descr=""/>
          <p:cNvPicPr/>
          <p:nvPr/>
        </p:nvPicPr>
        <p:blipFill>
          <a:blip r:embed="rId2"/>
          <a:stretch/>
        </p:blipFill>
        <p:spPr>
          <a:xfrm>
            <a:off x="4067280" y="836640"/>
            <a:ext cx="1800000" cy="4316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2156400" y="1323360"/>
            <a:ext cx="4802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5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知作者背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作者的生平、作品的背景资料入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准确把握作者的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志趣、作品的主旨倾向。杜甫二十五岁左右“游齐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赵”时创作《望岳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时他襟怀浩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眼界空阔。了解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能理解这首诗所表达的诗人敢攀顶峰、俯视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的雄心气概和豪情壮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对角圆角矩形 6"/>
          <p:cNvSpPr/>
          <p:nvPr/>
        </p:nvSpPr>
        <p:spPr>
          <a:xfrm>
            <a:off x="395280" y="1341360"/>
            <a:ext cx="8280360" cy="4391280"/>
          </a:xfrm>
          <a:custGeom>
            <a:avLst/>
            <a:gdLst/>
            <a:ahLst/>
            <a:rect l="l" t="t" r="r" b="b"/>
            <a:pathLst>
              <a:path w="8280920" h="4392488">
                <a:moveTo>
                  <a:pt x="732095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3660392"/>
                </a:lnTo>
                <a:cubicBezTo>
                  <a:pt x="8280920" y="4064717"/>
                  <a:pt x="7953150" y="4392487"/>
                  <a:pt x="7548825" y="4392487"/>
                </a:cubicBezTo>
                <a:lnTo>
                  <a:pt x="0" y="4392488"/>
                </a:lnTo>
                <a:lnTo>
                  <a:pt x="0" y="4392488"/>
                </a:lnTo>
                <a:lnTo>
                  <a:pt x="0" y="732095"/>
                </a:lnTo>
                <a:cubicBezTo>
                  <a:pt x="0" y="327770"/>
                  <a:pt x="327770" y="0"/>
                  <a:pt x="73209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1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8" dur="1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3" dur="1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8" dur="1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8" dur="1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言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2052720" y="1573200"/>
            <a:ext cx="56145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词类活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萧关逢候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护在燕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动词活用为名词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指骑马的人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文中指骑马的侦察兵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晨兴理荒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词活用为名词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指豆苗里的杂草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对角圆角矩形 5"/>
          <p:cNvSpPr/>
          <p:nvPr/>
        </p:nvSpPr>
        <p:spPr>
          <a:xfrm>
            <a:off x="647640" y="1628640"/>
            <a:ext cx="8245440" cy="3672000"/>
          </a:xfrm>
          <a:custGeom>
            <a:avLst/>
            <a:gdLst/>
            <a:ahLst/>
            <a:rect l="l" t="t" r="r" b="b"/>
            <a:pathLst>
              <a:path w="8245424" h="3672408">
                <a:moveTo>
                  <a:pt x="612080" y="0"/>
                </a:moveTo>
                <a:lnTo>
                  <a:pt x="8245424" y="0"/>
                </a:lnTo>
                <a:lnTo>
                  <a:pt x="8245424" y="0"/>
                </a:lnTo>
                <a:lnTo>
                  <a:pt x="8245424" y="3060327"/>
                </a:lnTo>
                <a:cubicBezTo>
                  <a:pt x="8245424" y="3398369"/>
                  <a:pt x="7971386" y="3672407"/>
                  <a:pt x="7633344" y="3672407"/>
                </a:cubicBezTo>
                <a:lnTo>
                  <a:pt x="0" y="3672408"/>
                </a:lnTo>
                <a:lnTo>
                  <a:pt x="0" y="3672408"/>
                </a:lnTo>
                <a:lnTo>
                  <a:pt x="0" y="612080"/>
                </a:lnTo>
                <a:cubicBezTo>
                  <a:pt x="0" y="274038"/>
                  <a:pt x="274038" y="0"/>
                  <a:pt x="61208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6"/>
          <p:cNvSpPr/>
          <p:nvPr/>
        </p:nvSpPr>
        <p:spPr>
          <a:xfrm>
            <a:off x="2411280" y="2781360"/>
            <a:ext cx="14472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9"/>
          <p:cNvSpPr/>
          <p:nvPr/>
        </p:nvSpPr>
        <p:spPr>
          <a:xfrm>
            <a:off x="2050920" y="4076640"/>
            <a:ext cx="14472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0"/>
          <p:cNvSpPr/>
          <p:nvPr/>
        </p:nvSpPr>
        <p:spPr>
          <a:xfrm>
            <a:off x="2340000" y="4076640"/>
            <a:ext cx="14436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"/>
          <p:cNvSpPr/>
          <p:nvPr/>
        </p:nvSpPr>
        <p:spPr>
          <a:xfrm>
            <a:off x="1772280" y="217440"/>
            <a:ext cx="5424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常考题型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探究表现手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典型题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首诗运用了何种表现手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请分析这首诗的表达技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艺术手法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“手法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诗人是怎样抒发自己的情感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何效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【方法指津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析表达技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分析诗人表达思想感情的方法。要准确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必须熟悉常用的一些表现方法。表现手法分抒情手法、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方法、修辞手法三大类。第一步准确指出用了何种手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步结合诗句阐释为什么用了这种手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步指出此种手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效地传达出诗人怎样的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7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4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9" dur="1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4" dur="1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1" dur="1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6" dur="20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9" dur="20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2" dur="2000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5" dur="2000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8" dur="2000"/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zkyd.jpg" descr=""/>
          <p:cNvPicPr/>
          <p:nvPr/>
        </p:nvPicPr>
        <p:blipFill>
          <a:blip r:embed="rId1"/>
          <a:stretch/>
        </p:blipFill>
        <p:spPr>
          <a:xfrm>
            <a:off x="2914560" y="115920"/>
            <a:ext cx="3400560" cy="576360"/>
          </a:xfrm>
          <a:prstGeom prst="rect">
            <a:avLst/>
          </a:prstGeom>
          <a:ln w="0">
            <a:noFill/>
          </a:ln>
        </p:spPr>
      </p:pic>
      <p:pic>
        <p:nvPicPr>
          <p:cNvPr id="343" name="bt45.jpg" descr=""/>
          <p:cNvPicPr/>
          <p:nvPr/>
        </p:nvPicPr>
        <p:blipFill>
          <a:blip r:embed="rId2"/>
          <a:stretch/>
        </p:blipFill>
        <p:spPr>
          <a:xfrm>
            <a:off x="3348000" y="692280"/>
            <a:ext cx="2232000" cy="50472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"/>
          <p:cNvSpPr/>
          <p:nvPr/>
        </p:nvSpPr>
        <p:spPr>
          <a:xfrm>
            <a:off x="2700360" y="12376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白雪歌送武判官归京　　　　岑　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95280" y="152676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北风卷地白草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胡天八月即飞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忽如一夜春风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千树万树梨花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散入珠帘湿罗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狐裘不暖锦衾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将军角弓不得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护铁衣冷难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瀚海阑干百丈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愁云惨淡万里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中军置酒饮归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胡琴琵琶与羌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纷纷暮雪下辕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掣红旗冻不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轮台东门送君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时雪满天山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山回路转不见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雪上空留马行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zkyd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3889080" cy="576000"/>
          </a:xfrm>
          <a:prstGeom prst="rect">
            <a:avLst/>
          </a:prstGeom>
          <a:ln w="0">
            <a:noFill/>
          </a:ln>
        </p:spPr>
      </p:pic>
      <p:pic>
        <p:nvPicPr>
          <p:cNvPr id="347" name="bt45.jpg" descr=""/>
          <p:cNvPicPr/>
          <p:nvPr/>
        </p:nvPicPr>
        <p:blipFill>
          <a:blip r:embed="rId2"/>
          <a:stretch/>
        </p:blipFill>
        <p:spPr>
          <a:xfrm>
            <a:off x="3274920" y="907920"/>
            <a:ext cx="2449440" cy="4320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"/>
          <p:cNvSpPr/>
          <p:nvPr/>
        </p:nvSpPr>
        <p:spPr>
          <a:xfrm>
            <a:off x="2284200" y="131328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描述“瀚海阑干百丈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愁云惨淡万里凝”所展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5"/>
          <p:cNvSpPr/>
          <p:nvPr/>
        </p:nvSpPr>
        <p:spPr>
          <a:xfrm>
            <a:off x="826920" y="263700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谷的阴面纵横散布着百丈坚冰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里长空凝结着惨淡的阴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本题考查的是描绘诗句表现的画面的能力。答题时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要扣住诗句中的意象“瀚海”“冰”“愁云”进行描述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并加以适当的描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对角圆角矩形 7"/>
          <p:cNvSpPr/>
          <p:nvPr/>
        </p:nvSpPr>
        <p:spPr>
          <a:xfrm>
            <a:off x="755640" y="2492280"/>
            <a:ext cx="7993080" cy="3024360"/>
          </a:xfrm>
          <a:custGeom>
            <a:avLst/>
            <a:gdLst/>
            <a:ahLst/>
            <a:rect l="l" t="t" r="r" b="b"/>
            <a:pathLst>
              <a:path w="7992888" h="3024336">
                <a:moveTo>
                  <a:pt x="504066" y="0"/>
                </a:moveTo>
                <a:lnTo>
                  <a:pt x="7992888" y="0"/>
                </a:lnTo>
                <a:lnTo>
                  <a:pt x="7992888" y="0"/>
                </a:lnTo>
                <a:lnTo>
                  <a:pt x="7992888" y="2520269"/>
                </a:lnTo>
                <a:cubicBezTo>
                  <a:pt x="7992888" y="2798657"/>
                  <a:pt x="7767210" y="3024335"/>
                  <a:pt x="7488822" y="3024335"/>
                </a:cubicBezTo>
                <a:lnTo>
                  <a:pt x="0" y="3024336"/>
                </a:lnTo>
                <a:lnTo>
                  <a:pt x="0" y="3024336"/>
                </a:lnTo>
                <a:lnTo>
                  <a:pt x="0" y="504066"/>
                </a:lnTo>
                <a:cubicBezTo>
                  <a:pt x="0" y="225678"/>
                  <a:pt x="225678" y="0"/>
                  <a:pt x="504066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1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4" dur="2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zkyd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3600360" cy="576000"/>
          </a:xfrm>
          <a:prstGeom prst="rect">
            <a:avLst/>
          </a:prstGeom>
          <a:ln w="0">
            <a:noFill/>
          </a:ln>
        </p:spPr>
      </p:pic>
      <p:pic>
        <p:nvPicPr>
          <p:cNvPr id="352" name="bt45.jpg" descr=""/>
          <p:cNvPicPr/>
          <p:nvPr/>
        </p:nvPicPr>
        <p:blipFill>
          <a:blip r:embed="rId2"/>
          <a:stretch/>
        </p:blipFill>
        <p:spPr>
          <a:xfrm>
            <a:off x="3203640" y="907920"/>
            <a:ext cx="2448000" cy="4320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1"/>
          <p:cNvSpPr/>
          <p:nvPr/>
        </p:nvSpPr>
        <p:spPr>
          <a:xfrm>
            <a:off x="2042280" y="1313280"/>
            <a:ext cx="50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山回路转不见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雪上空留马行处”运用了什么抒情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抒发了诗人怎样的思想感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5"/>
          <p:cNvSpPr/>
          <p:nvPr/>
        </p:nvSpPr>
        <p:spPr>
          <a:xfrm>
            <a:off x="611280" y="2708280"/>
            <a:ext cx="82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借景抒情。抒发了诗人因朋友返京而产生的无限惆怅之情。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 〔解析〕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本题考查的是诗歌抒情的方式以及作品表现的作者的情感。诗歌抒情的方式一般有直抒胸臆与借景抒情两种。这两句诗中“山回路转”“雪”属于景物描写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友人已远去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诗人还在驻足远望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个举动表达了对友人的不舍以及因友人归京产生的惆怅之情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所以诗歌使用了借景抒情的抒情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圆角矩形标注 7"/>
          <p:cNvSpPr/>
          <p:nvPr/>
        </p:nvSpPr>
        <p:spPr>
          <a:xfrm>
            <a:off x="468360" y="2708280"/>
            <a:ext cx="8496360" cy="3384720"/>
          </a:xfrm>
          <a:prstGeom prst="wedgeRoundRectCallout">
            <a:avLst>
              <a:gd name="adj1" fmla="val 1949"/>
              <a:gd name="adj2" fmla="val -5644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15" name="矩形 4"/>
          <p:cNvSpPr/>
          <p:nvPr/>
        </p:nvSpPr>
        <p:spPr>
          <a:xfrm>
            <a:off x="395280" y="155736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王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701-761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摩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河东蒲州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山西运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诗人、画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“诗佛”之称。王维精通佛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禅宗影响很大。佛教有一部《维摩诘经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王维名和字的由来。王维的诗、书、画都很有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苏轼评价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味摩诘之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诗中有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摩诘之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画中有诗。”开元九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72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进士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太乐丞。王维是盛唐诗人的代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存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余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要诗作有《相思》《山居秋暝》等。他多才多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音乐也很精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孟浩然合称“王孟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对角圆角矩形 5"/>
          <p:cNvSpPr/>
          <p:nvPr/>
        </p:nvSpPr>
        <p:spPr>
          <a:xfrm>
            <a:off x="324000" y="1484280"/>
            <a:ext cx="8424720" cy="4537080"/>
          </a:xfrm>
          <a:custGeom>
            <a:avLst/>
            <a:gdLst/>
            <a:ahLst/>
            <a:rect l="l" t="t" r="r" b="b"/>
            <a:pathLst>
              <a:path w="8424936" h="4536504">
                <a:moveTo>
                  <a:pt x="756099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3780404"/>
                </a:lnTo>
                <a:cubicBezTo>
                  <a:pt x="8424936" y="4197986"/>
                  <a:pt x="8086419" y="4536503"/>
                  <a:pt x="7668837" y="4536503"/>
                </a:cubicBezTo>
                <a:lnTo>
                  <a:pt x="0" y="4536504"/>
                </a:lnTo>
                <a:lnTo>
                  <a:pt x="0" y="4536504"/>
                </a:lnTo>
                <a:lnTo>
                  <a:pt x="0" y="756099"/>
                </a:lnTo>
                <a:cubicBezTo>
                  <a:pt x="0" y="338517"/>
                  <a:pt x="338517" y="0"/>
                  <a:pt x="75609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zz30a.jpg" descr=""/>
          <p:cNvPicPr/>
          <p:nvPr/>
        </p:nvPicPr>
        <p:blipFill>
          <a:blip r:embed="rId2"/>
          <a:stretch/>
        </p:blipFill>
        <p:spPr>
          <a:xfrm>
            <a:off x="5135400" y="5065560"/>
            <a:ext cx="267336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"/>
          <p:cNvSpPr/>
          <p:nvPr/>
        </p:nvSpPr>
        <p:spPr>
          <a:xfrm>
            <a:off x="1769040" y="1474560"/>
            <a:ext cx="559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李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701-762)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太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青莲居士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唐朝浪漫主义诗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被后人誉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诗仙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杜甫并称为“李杜”。祖籍陇西成纪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甘肃天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于西域碎叶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4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再随父迁至剑南道绵州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四川绵阳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他所作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体风格豪放俊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新飘逸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气磅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气势十足。既反映了唐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繁荣景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揭露了统治阶级的荒淫和腐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现出蔑视权贵、反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统束缚、追求自由和理想的积极精神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具浪漫主义情怀。李白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诗文千余篇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作品有《静夜思》《将进酒》《闻王昌龄左迁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遥有此寄》《月下独酌》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《李太白集》传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对角圆角矩形 5"/>
          <p:cNvSpPr/>
          <p:nvPr/>
        </p:nvSpPr>
        <p:spPr>
          <a:xfrm>
            <a:off x="250920" y="1413000"/>
            <a:ext cx="8569080" cy="4248000"/>
          </a:xfrm>
          <a:custGeom>
            <a:avLst/>
            <a:gdLst/>
            <a:ahLst/>
            <a:rect l="l" t="t" r="r" b="b"/>
            <a:pathLst>
              <a:path w="8568952" h="4248472">
                <a:moveTo>
                  <a:pt x="708092" y="0"/>
                </a:moveTo>
                <a:lnTo>
                  <a:pt x="8568952" y="0"/>
                </a:lnTo>
                <a:lnTo>
                  <a:pt x="8568952" y="0"/>
                </a:lnTo>
                <a:lnTo>
                  <a:pt x="8568952" y="3540379"/>
                </a:lnTo>
                <a:cubicBezTo>
                  <a:pt x="8568952" y="3931447"/>
                  <a:pt x="8251928" y="4248471"/>
                  <a:pt x="7860860" y="4248471"/>
                </a:cubicBezTo>
                <a:lnTo>
                  <a:pt x="0" y="4248472"/>
                </a:lnTo>
                <a:lnTo>
                  <a:pt x="0" y="4248472"/>
                </a:lnTo>
                <a:lnTo>
                  <a:pt x="0" y="708092"/>
                </a:lnTo>
                <a:cubicBezTo>
                  <a:pt x="0" y="317024"/>
                  <a:pt x="317024" y="0"/>
                  <a:pt x="70809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zz30b.jpg" descr="id:2147505475;FounderCES"/>
          <p:cNvPicPr/>
          <p:nvPr/>
        </p:nvPicPr>
        <p:blipFill>
          <a:blip r:embed="rId2"/>
          <a:stretch/>
        </p:blipFill>
        <p:spPr>
          <a:xfrm>
            <a:off x="6659640" y="4797360"/>
            <a:ext cx="1981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1701000" y="1613160"/>
            <a:ext cx="6099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陈与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090-1138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去非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简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先祖居京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曾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希亮迁居洛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故为宋代河南洛阳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在属河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他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于宋哲宗元祐五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090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卒于南宋宋高宗绍兴八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138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宋末、南宋初年的杰出诗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时也工于填词。其词存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者虽仅十余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却别具风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尤近于杜甫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意超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笔力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疏朗明快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然浑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代表作品有《陈与义集》《无住词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简斋集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对角圆角矩形 5"/>
          <p:cNvSpPr/>
          <p:nvPr/>
        </p:nvSpPr>
        <p:spPr>
          <a:xfrm>
            <a:off x="324000" y="1557360"/>
            <a:ext cx="8569080" cy="4319640"/>
          </a:xfrm>
          <a:custGeom>
            <a:avLst/>
            <a:gdLst/>
            <a:ahLst/>
            <a:rect l="l" t="t" r="r" b="b"/>
            <a:pathLst>
              <a:path w="8568952" h="4320480">
                <a:moveTo>
                  <a:pt x="720094" y="0"/>
                </a:moveTo>
                <a:lnTo>
                  <a:pt x="8568952" y="0"/>
                </a:lnTo>
                <a:lnTo>
                  <a:pt x="8568952" y="0"/>
                </a:lnTo>
                <a:lnTo>
                  <a:pt x="8568952" y="3600385"/>
                </a:lnTo>
                <a:cubicBezTo>
                  <a:pt x="8568952" y="3998082"/>
                  <a:pt x="8246555" y="4320479"/>
                  <a:pt x="7848858" y="4320479"/>
                </a:cubicBezTo>
                <a:lnTo>
                  <a:pt x="0" y="4320480"/>
                </a:lnTo>
                <a:lnTo>
                  <a:pt x="0" y="4320480"/>
                </a:lnTo>
                <a:lnTo>
                  <a:pt x="0" y="720094"/>
                </a:lnTo>
                <a:cubicBezTo>
                  <a:pt x="0" y="322397"/>
                  <a:pt x="322397" y="0"/>
                  <a:pt x="72009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zz30c.jpg" descr=""/>
          <p:cNvPicPr/>
          <p:nvPr/>
        </p:nvPicPr>
        <p:blipFill>
          <a:blip r:embed="rId2"/>
          <a:stretch/>
        </p:blipFill>
        <p:spPr>
          <a:xfrm>
            <a:off x="4052880" y="4710240"/>
            <a:ext cx="32702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2150640" y="1899000"/>
            <a:ext cx="507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园田居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”是“回归”“回到”之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园田居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诗人辞旧我的别词、迎新我的颂歌。陶渊明的《归园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居》一共有五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第三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至塞上”即奉命出使到达塞上。此诗作于诗人赴边途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出塞时的沿途景色。题目清楚地交代了写作本诗的缘由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对角圆角矩形 5"/>
          <p:cNvSpPr/>
          <p:nvPr/>
        </p:nvSpPr>
        <p:spPr>
          <a:xfrm>
            <a:off x="468360" y="1773360"/>
            <a:ext cx="8351640" cy="3816360"/>
          </a:xfrm>
          <a:custGeom>
            <a:avLst/>
            <a:gdLst/>
            <a:ahLst/>
            <a:rect l="l" t="t" r="r" b="b"/>
            <a:pathLst>
              <a:path w="8352928" h="3816424">
                <a:moveTo>
                  <a:pt x="636083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3180340"/>
                </a:lnTo>
                <a:cubicBezTo>
                  <a:pt x="8352928" y="3531639"/>
                  <a:pt x="8068144" y="3816423"/>
                  <a:pt x="7716845" y="3816423"/>
                </a:cubicBezTo>
                <a:lnTo>
                  <a:pt x="0" y="3816424"/>
                </a:lnTo>
                <a:lnTo>
                  <a:pt x="0" y="3816424"/>
                </a:lnTo>
                <a:lnTo>
                  <a:pt x="0" y="636083"/>
                </a:lnTo>
                <a:cubicBezTo>
                  <a:pt x="0" y="284784"/>
                  <a:pt x="284784" y="0"/>
                  <a:pt x="63608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Windows 用户</cp:lastModifiedBy>
  <dcterms:modified xsi:type="dcterms:W3CDTF">2017-01-07T05:55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